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7CC-0E6A-4327-9F00-A5516B82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614-887E-41AA-995E-41C88F77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C5A-F619-49C5-AEB3-ECDE9E56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B20-9DDC-4279-8A44-1906F3FD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757-2D59-43E0-BE72-697F024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83D-D5AA-445F-B566-C10CB26B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B8A-DC9A-4BBA-8975-B81B16B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25F-B344-4962-B983-9BD13265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E59-5D25-4EA8-9114-2EF30488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4B4-DE67-4903-8C91-DB7BC82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2AD-08C6-4991-9E48-E9C3F8B5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C97-B9C4-4B05-BBEB-73A7992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5924-BBAA-4038-AB78-C368F3DD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ossilmuseum.net/DinosaurFossils/giganotosaurus/giganotosaurus.htm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earth/bluemarblewest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l About the Dinosau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6172200" cy="31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ltop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leaping foot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even smaller then a crocodile's mouth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ltopus was about 2 feet long and it weighed about 2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topus walked on its two legs and was a very fast ru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very quick and scientists think it was a jumping dinosau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3657600" cy="29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800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ppened to the dinosa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re trying to figure out why dinosaurs are extin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y no longer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cientists think that a lar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or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t the Earth and caused a fire which killed some of the dinosa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sh from the fire covered the sunlight, causing the plants and herbivores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herbivores died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nivores had nothing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died as w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31669"/>
          <a:stretch/>
        </p:blipFill>
        <p:spPr>
          <a:xfrm>
            <a:off x="57150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studies dinosau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eontologi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scientists who study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ig for dinosaur bones that were left where the animal dies.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ss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osaur fossils have been found in the following states: California, Montana, Utah, Colorado, Oklahoma and Wy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find dinosaur fossils in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se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iganotosaur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733920"/>
            <a:ext cx="4800600" cy="289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0481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your team to discuss the following vocabulary wor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6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leon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eo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244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ell your neighbor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things you’ve learned about dinosaurs to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519800" cy="293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5 million years ag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nosaurs roamed the ear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learn about the dinosau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osaurs lived a long time ago, before cave men (65 million years ag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dinosaurs were big and some were sm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main groups of dinosaurs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1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dinosaur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leaves and grasses, but weren’t interested in eating other dinosaur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rachiosaurus"/>
          <p:cNvPicPr/>
          <p:nvPr/>
        </p:nvPicPr>
        <p:blipFill>
          <a:blip r:embed="rId1"/>
          <a:stretch/>
        </p:blipFill>
        <p:spPr>
          <a:xfrm>
            <a:off x="4191120" y="2438280"/>
            <a:ext cx="4572000" cy="353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73356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long neck and it was b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neck to reach leaves and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and ate and ate to fill up its big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chiosaurus was about 50 feet tall and 85 feet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round tr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ook whe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753080" cy="387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rachiosaurus "/>
          <p:cNvPicPr/>
          <p:nvPr/>
        </p:nvPicPr>
        <p:blipFill>
          <a:blip r:embed="rId2"/>
          <a:stretch/>
        </p:blipFill>
        <p:spPr>
          <a:xfrm>
            <a:off x="121932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gosaur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d a spiked tail that it used to protect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ed its plate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te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dinosaur walked on four legs, but its back legs were twice as long as its front le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bout 30 feet lo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86040" cy="312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tegosaurus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erato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"three horned fac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d three sharp horns fo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25-30 feet long and 9 1/2 feet 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grass, bushes, leaves and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riceratops - click on the picture to go back"/>
          <p:cNvPicPr/>
          <p:nvPr/>
        </p:nvPicPr>
        <p:blipFill>
          <a:blip r:embed="rId1"/>
          <a:stretch/>
        </p:blipFill>
        <p:spPr>
          <a:xfrm>
            <a:off x="4572000" y="3316320"/>
            <a:ext cx="43815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9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dn’t eat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te animals, including smaller dinosa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eople were around, these fierce animals might have eaten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 Dinosaur siege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ans "tyrant reptile.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had really big jaws that were razor-shar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teeth were six inches lo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stood on its hind legs, and it had two tiny feet in the front.  It dragged its tail beh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was the biggest meat-eating animal that ever lived and the last dinosaur to walk the ear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yrannosaurus - click on the picture to go back"/>
          <p:cNvPicPr/>
          <p:nvPr/>
        </p:nvPicPr>
        <p:blipFill>
          <a:blip r:embed="rId1"/>
          <a:stretch/>
        </p:blipFill>
        <p:spPr>
          <a:xfrm>
            <a:off x="3657600" y="3733920"/>
            <a:ext cx="5143680" cy="25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yrannosaurus - from 'Tracks of the Giants - click on the picture to go back"/>
          <p:cNvPicPr/>
          <p:nvPr/>
        </p:nvPicPr>
        <p:blipFill>
          <a:blip r:embed="rId2"/>
          <a:stretch/>
        </p:blipFill>
        <p:spPr>
          <a:xfrm>
            <a:off x="228600" y="4191120"/>
            <a:ext cx="32958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41:44Z</dcterms:created>
  <dc:creator>lridings</dc:creator>
  <dc:description/>
  <dc:language>en-US</dc:language>
  <cp:lastModifiedBy>lridings</cp:lastModifiedBy>
  <dcterms:modified xsi:type="dcterms:W3CDTF">2009-05-07T18:31:55Z</dcterms:modified>
  <cp:revision>4</cp:revision>
  <dc:subject/>
  <dc:title>Dinosaurs</dc:title>
</cp:coreProperties>
</file>