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0.wmf" ContentType="image/x-wmf"/>
  <Override PartName="/ppt/media/image3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FC0-5DD5-4539-AC81-BF4CD792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624-A579-488C-A92D-36846958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6DB-447A-4BCD-9BFD-864AAD31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00C-45B7-49DC-808E-1BC6EEAF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5F3-E3EB-41CF-8535-DB825DC1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980-570D-4950-A3BF-C25C3186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C10-8F63-4C66-9AF0-554222E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541-0B02-4F23-953E-037DFCC6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2DA-0808-413B-8B25-EAA8263B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FAE-AC5F-4134-BA59-4A9E3131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CFE-3D47-44B5-88ED-5B49D94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5E1-8F7B-48E8-B863-24642AE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1216-6767-462D-A2A6-E263E1B06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ossilmuseum.net/DinosaurFossils/giganotosaurus/giganotosaurus.htm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larviews.com/cap/earth/bluemarblewest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ll About the Dinosau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6172200" cy="31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ltop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leaping foot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even smaller then a crocodile's mouth op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ltopus was about 2 feet long and it weighed about 2 p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topus walked on its two legs and was a very fast ru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very quick and scientists think it was a jumping dinosau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3657600" cy="290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4800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ppened to the dinosa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sts are trying to figure out why dinosaurs are extin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that they no longer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cientists think that a larg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eor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t the Earth and caused a fire which killed some of the dinosa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sh from the fire covered the sunlight, causing the plants and herbivores to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herbivores died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nivores had nothing to 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died as w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31669"/>
          <a:stretch/>
        </p:blipFill>
        <p:spPr>
          <a:xfrm>
            <a:off x="5715000" y="43434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studies dinosaur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eontologi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scientists who study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dig for dinosaur bones that were left where the animal dies. These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ssi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nosaur fossils have been found in the following states: California, Montana, Utah, Colorado, Oklahoma and Wy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find dinosaur fossils in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seu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Giganotosaur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733920"/>
            <a:ext cx="4800600" cy="289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0481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your team to discuss the following vocabulary wor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7670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leont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ss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eo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244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ell your neighbor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things you’ve learned about dinosaurs tod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519800" cy="293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5 million years ag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nosaurs roamed the ear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 learn about the dinosau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osaurs lived a long time ago, before cave men (65 million years ag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dinosaurs were big and some were sm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main groups of dinosaur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581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dinosaurs that eat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leaves and grasses, but weren’t interested in eating other dinosaur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rachiosaurus"/>
          <p:cNvPicPr/>
          <p:nvPr/>
        </p:nvPicPr>
        <p:blipFill>
          <a:blip r:embed="rId1"/>
          <a:stretch/>
        </p:blipFill>
        <p:spPr>
          <a:xfrm>
            <a:off x="4191120" y="2438280"/>
            <a:ext cx="4572000" cy="353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3733560" cy="21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long neck and it was bi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neck to reach leaves and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and ate and ate to fill up its big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chiosaurus was about 50 feet tall and 85 feet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ound tr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hook whe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l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4753080" cy="3876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achiosaurus "/>
          <p:cNvPicPr/>
          <p:nvPr/>
        </p:nvPicPr>
        <p:blipFill>
          <a:blip r:embed="rId2"/>
          <a:stretch/>
        </p:blipFill>
        <p:spPr>
          <a:xfrm>
            <a:off x="1219320" y="4572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spiked tail that it used to protect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plate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dinosaur walked on four legs, but its back legs were twice as long as its front le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bout 30 feet lon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86040" cy="3125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Stegosaurus"/>
          <p:cNvPicPr/>
          <p:nvPr/>
        </p:nvPicPr>
        <p:blipFill>
          <a:blip r:embed="rId2"/>
          <a:stretch/>
        </p:blipFill>
        <p:spPr>
          <a:xfrm>
            <a:off x="838080" y="4038480"/>
            <a:ext cx="33530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three horned fac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had three sharp horn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25-30 feet long and 9 1/2 feet 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grass, bushes, leaves and ber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Triceratops - click on the picture to go back"/>
          <p:cNvPicPr/>
          <p:nvPr/>
        </p:nvPicPr>
        <p:blipFill>
          <a:blip r:embed="rId1"/>
          <a:stretch/>
        </p:blipFill>
        <p:spPr>
          <a:xfrm>
            <a:off x="4572000" y="3316320"/>
            <a:ext cx="43815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91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dn’t eat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animals, including smaller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eople were around, these fierce animals might have eaten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: Dinosaur siege"/>
          <p:cNvPicPr/>
          <p:nvPr/>
        </p:nvPicPr>
        <p:blipFill>
          <a:blip r:embed="rId1"/>
          <a:stretch/>
        </p:blipFill>
        <p:spPr>
          <a:xfrm>
            <a:off x="1752480" y="2590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ans "tyrant reptile.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had really big jaws that were razor-shar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teeth were six inches lo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stood on its hind legs, and it had two tiny feet in the front.  It dragged its tail beh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was the biggest meat-eating animal that ever lived and the last dinosaur to walk the ear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yrannosaurus - click on the picture to go back"/>
          <p:cNvPicPr/>
          <p:nvPr/>
        </p:nvPicPr>
        <p:blipFill>
          <a:blip r:embed="rId1"/>
          <a:stretch/>
        </p:blipFill>
        <p:spPr>
          <a:xfrm>
            <a:off x="3657600" y="3733920"/>
            <a:ext cx="5143680" cy="25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yrannosaurus - from 'Tracks of the Giants - click on the picture to go back"/>
          <p:cNvPicPr/>
          <p:nvPr/>
        </p:nvPicPr>
        <p:blipFill>
          <a:blip r:embed="rId2"/>
          <a:stretch/>
        </p:blipFill>
        <p:spPr>
          <a:xfrm>
            <a:off x="228600" y="4191120"/>
            <a:ext cx="32958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41:44Z</dcterms:created>
  <dc:creator>lridings</dc:creator>
  <dc:description/>
  <dc:language>en-US</dc:language>
  <cp:lastModifiedBy>lridings</cp:lastModifiedBy>
  <dcterms:modified xsi:type="dcterms:W3CDTF">2009-05-07T18:31:55Z</dcterms:modified>
  <cp:revision>4</cp:revision>
  <dc:subject/>
  <dc:title>Dinosaurs</dc:title>
</cp:coreProperties>
</file>