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2.wmf" ContentType="image/x-wmf"/>
  <Override PartName="/ppt/media/image20.wmf" ContentType="image/x-wmf"/>
  <Override PartName="/ppt/media/image3.wmf" ContentType="image/x-wmf"/>
  <Override PartName="/ppt/media/image14.jpeg" ContentType="image/jpeg"/>
  <Override PartName="/ppt/media/image1.wmf" ContentType="image/x-wmf"/>
  <Override PartName="/ppt/media/image9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6B7-795A-4F3B-8B56-22465FC6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78F-7BF4-42A6-B0AF-9D300A8B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D699-0574-4464-9C09-70C1C47A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052-8B90-42B1-8EE5-6BAE9718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48F-EA0A-4D10-B6F8-E6210E74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67B-7339-44E6-8845-183AEDDF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5C1D-95C2-4F2D-855E-0E74F5F7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3C5-828D-48DA-8221-65AF0B6E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3CB3-488D-4B11-B550-FABB491B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E91-8DAB-4B11-92AA-B3304BE1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7BC-3E8B-47ED-8496-FD8FA143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639-FC75-430A-9644-701AAA39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8A1B-1D7A-47C5-B497-AE02503AD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ossilmuseum.net/DinosaurFossils/giganotosaurus/giganotosaurus.htm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olarviews.com/cap/earth/bluemarblewest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All About the Dinosau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6172200" cy="31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ltop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ltop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"leaping foot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even smaller then a crocodile's mouth op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ltopus was about 2 feet long and it weighed about 2 pou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topus walked on its two legs and was a very fast run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very quick and scientists think it was a jumping dinosau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3657600" cy="2909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48006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happened to the dinosa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tists are trying to figure out why dinosaurs are extin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tin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that they no longer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scientists think that a larg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teori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t the Earth and caused a fire which killed some of the dinosa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sh from the fire covered the sunlight, causing the plants and herbivores to d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he herbivores died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nivores had nothing to e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died as w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31669"/>
          <a:stretch/>
        </p:blipFill>
        <p:spPr>
          <a:xfrm>
            <a:off x="5715000" y="4343400"/>
            <a:ext cx="3124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studies dinosaur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leontologis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scientists who study dinosa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dig for dinosaur bones that were left where the animal dies. These are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ssi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nosaur fossils have been found in the following states: California, Montana, Utah, Colorado, Oklahoma and Wy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find dinosaur fossils in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seu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Giganotosaur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3733920"/>
            <a:ext cx="4800600" cy="289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0481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with your team to discuss the following vocabulary word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7670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in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b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n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leont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ss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eo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lt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0244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ell your neighbor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things you’ve learned about dinosaurs tod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4519800" cy="2936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65 million years ago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520" y="41148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nosaurs roamed the ear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9810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t’s learn about the dinosau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osaurs lived a long time ago, before cave men (65 million years ago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dinosaurs were big and some were sm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wo main groups of dinosaurs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81480" y="4572000"/>
            <a:ext cx="35816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dinosaurs that eat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leaves and grasses, but weren’t interested in eating other dinosaur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Brachiosaurus"/>
          <p:cNvPicPr/>
          <p:nvPr/>
        </p:nvPicPr>
        <p:blipFill>
          <a:blip r:embed="rId1"/>
          <a:stretch/>
        </p:blipFill>
        <p:spPr>
          <a:xfrm>
            <a:off x="4191120" y="2438280"/>
            <a:ext cx="4572000" cy="3532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3733560" cy="21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d a long neck and it was bi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used its neck to reach leaves and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ate and ate and ate to fill up its big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chiosaurus was about 50 feet tall and 85 feet l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possibl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round tr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hook whe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l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038480" y="2666880"/>
            <a:ext cx="4753080" cy="3876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rachiosaurus "/>
          <p:cNvPicPr/>
          <p:nvPr/>
        </p:nvPicPr>
        <p:blipFill>
          <a:blip r:embed="rId2"/>
          <a:stretch/>
        </p:blipFill>
        <p:spPr>
          <a:xfrm>
            <a:off x="1219320" y="457200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d a spiked tail that it used to protect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used its plates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ate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dinosaur walked on four legs, but its back legs were twice as long as its front le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bout 30 feet long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86040" cy="3125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Stegosaurus"/>
          <p:cNvPicPr/>
          <p:nvPr/>
        </p:nvPicPr>
        <p:blipFill>
          <a:blip r:embed="rId2"/>
          <a:stretch/>
        </p:blipFill>
        <p:spPr>
          <a:xfrm>
            <a:off x="838080" y="4038480"/>
            <a:ext cx="335304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"three horned face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had three sharp horns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25-30 feet long and 9 1/2 feet t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grass, bushes, leaves and ber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Triceratops - click on the picture to go back"/>
          <p:cNvPicPr/>
          <p:nvPr/>
        </p:nvPicPr>
        <p:blipFill>
          <a:blip r:embed="rId1"/>
          <a:stretch/>
        </p:blipFill>
        <p:spPr>
          <a:xfrm>
            <a:off x="4572000" y="3316320"/>
            <a:ext cx="43815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4191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dn’t eat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animals, including smaller dinosa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people were around, these fierce animals might have eaten th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Image: Dinosaur siege"/>
          <p:cNvPicPr/>
          <p:nvPr/>
        </p:nvPicPr>
        <p:blipFill>
          <a:blip r:embed="rId1"/>
          <a:stretch/>
        </p:blipFill>
        <p:spPr>
          <a:xfrm>
            <a:off x="1752480" y="25909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ans "tyrant reptile.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had really big jaws that were razor-shar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s teeth were six inches lon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stood on its hind legs, and it had two tiny feet in the front.  It dragged its tail behi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was the biggest meat-eating animal that ever lived and the last dinosaur to walk the eart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yrannosaurus - click on the picture to go back"/>
          <p:cNvPicPr/>
          <p:nvPr/>
        </p:nvPicPr>
        <p:blipFill>
          <a:blip r:embed="rId1"/>
          <a:stretch/>
        </p:blipFill>
        <p:spPr>
          <a:xfrm>
            <a:off x="3657600" y="3733920"/>
            <a:ext cx="5143680" cy="25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Tyrannosaurus - from 'Tracks of the Giants - click on the picture to go back"/>
          <p:cNvPicPr/>
          <p:nvPr/>
        </p:nvPicPr>
        <p:blipFill>
          <a:blip r:embed="rId2"/>
          <a:stretch/>
        </p:blipFill>
        <p:spPr>
          <a:xfrm>
            <a:off x="228600" y="4191120"/>
            <a:ext cx="329580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41:44Z</dcterms:created>
  <dc:creator>lridings</dc:creator>
  <dc:description/>
  <dc:language>en-US</dc:language>
  <cp:lastModifiedBy>lridings</cp:lastModifiedBy>
  <dcterms:modified xsi:type="dcterms:W3CDTF">2009-05-07T18:31:55Z</dcterms:modified>
  <cp:revision>4</cp:revision>
  <dc:subject/>
  <dc:title>Dinosaurs</dc:title>
</cp:coreProperties>
</file>