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E52-BD46-4781-8543-C7C5FD3E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50E-A98D-4D60-9252-90AF508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B44-A6D0-4EC0-84DE-2C90F812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37B-AAE0-4FD7-BDB6-7C11511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156-CD11-4E9A-9AD0-56A42290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0CB-E08C-4216-ACFD-F39902FF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958-24A6-40F6-B5E1-F2AD9C39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8ED-DAF1-460B-91CB-396F7E0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04A-EF1E-4E97-A34E-1A89BACA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26A-C8E3-4EBC-A35B-25E0D99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7E4-EBC7-4A82-ACEB-663FADC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678-8AD7-4EA2-B9BE-52CBABA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ADF7-4859-446A-BC95-6B772048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ossilmuseum.net/DinosaurFossils/giganotosaurus/giganotosaurus.htm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earth/bluemarblewest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ll About the Dinosau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172200" cy="31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ltop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leaping foo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even smaller then a crocodile's mouth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ltopus was about 2 feet long and it weighed about 2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topus walked on its two legs and was a very fast ru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very quick and scientists think it was a jumping dinosau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3657600" cy="29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4800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ppened to the dinosa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sts are trying to figure out why dinosaurs are extin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that they no longer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cientists think that a larg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eor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t the Earth and caused a fire which killed some of the dinosa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sh from the fire covered the sunlight, causing the plants and herbivores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herbivores died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nivores had nothing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died as w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31669"/>
          <a:stretch/>
        </p:blipFill>
        <p:spPr>
          <a:xfrm>
            <a:off x="57150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studies dinosau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eontologi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scientists who study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ig for dinosaur bones that were left where the animal dies. These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ss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nosaur fossils have been found in the following states: California, Montana, Utah, Colorado, Oklahoma and Wy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find dinosaur fossils in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e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Giganotosaur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733920"/>
            <a:ext cx="4800600" cy="289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0481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your team to discuss the following vocabulary wor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67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leon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eo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24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ell your neighbor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things you’ve learned about dinosaurs to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519800" cy="293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5 million years ag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nosaurs roamed the ear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learn about the dinosau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osaurs lived a long time ago, before cave men (65 million years ag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dinosaurs were big and some were sm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main groups of dinosaur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1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dinosaurs that eat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leaves and grasses, but weren’t interested in eating other dinosaur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rachiosaurus"/>
          <p:cNvPicPr/>
          <p:nvPr/>
        </p:nvPicPr>
        <p:blipFill>
          <a:blip r:embed="rId1"/>
          <a:stretch/>
        </p:blipFill>
        <p:spPr>
          <a:xfrm>
            <a:off x="4191120" y="2438280"/>
            <a:ext cx="4572000" cy="353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73356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long neck and it was b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neck to reach leaves and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and ate and ate to fill up its big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chiosaurus was about 50 feet tall and 85 feet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ound tr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hook whe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l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753080" cy="387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achiosaurus "/>
          <p:cNvPicPr/>
          <p:nvPr/>
        </p:nvPicPr>
        <p:blipFill>
          <a:blip r:embed="rId2"/>
          <a:stretch/>
        </p:blipFill>
        <p:spPr>
          <a:xfrm>
            <a:off x="121932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spiked tail that it used to protect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plate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inosaur walked on four legs, but its back legs were twice as long as its front le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bout 30 feet lo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86040" cy="312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Stegosaurus"/>
          <p:cNvPicPr/>
          <p:nvPr/>
        </p:nvPicPr>
        <p:blipFill>
          <a:blip r:embed="rId2"/>
          <a:stretch/>
        </p:blipFill>
        <p:spPr>
          <a:xfrm>
            <a:off x="838080" y="4038480"/>
            <a:ext cx="33530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three horned fac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d three sharp horn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25-30 feet long and 9 1/2 feet 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grass, bushes, leaves and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Triceratops - click on the picture to go back"/>
          <p:cNvPicPr/>
          <p:nvPr/>
        </p:nvPicPr>
        <p:blipFill>
          <a:blip r:embed="rId1"/>
          <a:stretch/>
        </p:blipFill>
        <p:spPr>
          <a:xfrm>
            <a:off x="4572000" y="3316320"/>
            <a:ext cx="43815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9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dn’t eat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animals, including smaller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eople were around, these fierce animals might have eaten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 Dinosaur siege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ans "tyrant reptile.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had really big jaws that were razor-shar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teeth were six inches lo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stood on its hind legs, and it had two tiny feet in the front.  It dragged its tail beh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was the biggest meat-eating animal that ever lived and the last dinosaur to walk the ear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yrannosaurus - click on the picture to go back"/>
          <p:cNvPicPr/>
          <p:nvPr/>
        </p:nvPicPr>
        <p:blipFill>
          <a:blip r:embed="rId1"/>
          <a:stretch/>
        </p:blipFill>
        <p:spPr>
          <a:xfrm>
            <a:off x="3657600" y="3733920"/>
            <a:ext cx="5143680" cy="25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yrannosaurus - from 'Tracks of the Giants - click on the picture to go back"/>
          <p:cNvPicPr/>
          <p:nvPr/>
        </p:nvPicPr>
        <p:blipFill>
          <a:blip r:embed="rId2"/>
          <a:stretch/>
        </p:blipFill>
        <p:spPr>
          <a:xfrm>
            <a:off x="228600" y="4191120"/>
            <a:ext cx="32958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41:44Z</dcterms:created>
  <dc:creator>lridings</dc:creator>
  <dc:description/>
  <dc:language>en-US</dc:language>
  <cp:lastModifiedBy>lridings</cp:lastModifiedBy>
  <dcterms:modified xsi:type="dcterms:W3CDTF">2009-05-07T18:31:55Z</dcterms:modified>
  <cp:revision>4</cp:revision>
  <dc:subject/>
  <dc:title>Dinosaurs</dc:title>
</cp:coreProperties>
</file>