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2.wmf" ContentType="image/x-wmf"/>
  <Override PartName="/ppt/media/image20.wmf" ContentType="image/x-wmf"/>
  <Override PartName="/ppt/media/image3.wmf" ContentType="image/x-wmf"/>
  <Override PartName="/ppt/media/image14.jpeg" ContentType="image/jpeg"/>
  <Override PartName="/ppt/media/image1.wmf" ContentType="image/x-wmf"/>
  <Override PartName="/ppt/media/image9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E6D2-E097-4CE2-8A2F-BC7A60F0C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850C-7F48-4444-93C8-2BFB79C3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3017-B359-448B-89F6-60226C2F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A4E2-2906-4F58-A685-C11286558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C61A-EE68-4E3F-A95F-91C42DC5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8CA7-C9C8-48A0-8FDC-2BC7264A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AC44-C643-4C79-B5E4-E6611D83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AFF6-E441-484E-8FBF-01C79C42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1B77-5794-4A43-802A-5622BDEB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E1A8-C06F-4021-8952-8D1431D0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5E32-B84A-4FC2-A20A-E1781552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BE8D-387E-47E8-8FE1-B6EA46BC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585A-528F-4F51-9991-FD4882B40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fossilmuseum.net/DinosaurFossils/giganotosaurus/giganotosaurus.htm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olarviews.com/cap/earth/bluemarblewest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11430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All About the Dinosaur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76520" y="2971800"/>
            <a:ext cx="6172200" cy="31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ltop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altopu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eans "leaping foot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even smaller then a crocodile's mouth ope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altopus was about 2 feet long and it weighed about 2 pou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ltopus walked on its two legs and was a very fast runn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very quick and scientists think it was a jumping dinosau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3733920"/>
            <a:ext cx="3657600" cy="2909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962520" y="3962520"/>
            <a:ext cx="480060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happened to the dinosau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ientists are trying to figure out why dinosaurs are extin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tin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eans that they no longer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scientists think that a larg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teorit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t the Earth and caused a fire which killed some of the dinosau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sh from the fire covered the sunlight, causing the plants and herbivores to d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the herbivores died,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nivores had nothing to e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died as w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0" t="0" r="0" b="31669"/>
          <a:stretch/>
        </p:blipFill>
        <p:spPr>
          <a:xfrm>
            <a:off x="5715000" y="4343400"/>
            <a:ext cx="3124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 studies dinosaurs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leontologis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scientists who study dinosa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dig for dinosaur bones that were left where the animal dies. These are call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ssi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nosaur fossils have been found in the following states: California, Montana, Utah, Colorado, Oklahoma and Wyo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an find dinosaur fossils in 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useu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Giganotosaur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3733920"/>
            <a:ext cx="4800600" cy="2898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04812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with your team to discuss the following vocabulary word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376704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in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biv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niv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leontolog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ss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se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teo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rannosaurus R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gosau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chiosau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icerat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lto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0" y="1066680"/>
            <a:ext cx="402444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ell your neighbor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three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things you’ve learned about dinosaurs toda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09680" y="3429000"/>
            <a:ext cx="4519800" cy="2936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65 million years ago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23520" y="411480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nosaurs roamed the earth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19810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t’s learn about the dinosaur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nosaurs lived a long time ago, before cave men (65 million years ago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dinosaurs were big and some were sma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are two main groups of dinosaurs: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rbivor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nivor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181480" y="4572000"/>
            <a:ext cx="358164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rbiv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rbivor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dinosaurs that eat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ate leaves and grasses, but weren’t interested in eating other dinosaurs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Brachiosaurus"/>
          <p:cNvPicPr/>
          <p:nvPr/>
        </p:nvPicPr>
        <p:blipFill>
          <a:blip r:embed="rId1"/>
          <a:stretch/>
        </p:blipFill>
        <p:spPr>
          <a:xfrm>
            <a:off x="4191120" y="2438280"/>
            <a:ext cx="4572000" cy="3532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3200400"/>
            <a:ext cx="3733560" cy="21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achiosaurus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rachiosauru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d a long neck and it was bi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used its neck to reach leaves and for prot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ate and ate and ate to fill up its big bo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achiosaurus was about 50 feet tall and 85 feet lo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possible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ground trem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shook whe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lk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038480" y="2666880"/>
            <a:ext cx="4753080" cy="3876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Brachiosaurus "/>
          <p:cNvPicPr/>
          <p:nvPr/>
        </p:nvPicPr>
        <p:blipFill>
          <a:blip r:embed="rId2"/>
          <a:stretch/>
        </p:blipFill>
        <p:spPr>
          <a:xfrm>
            <a:off x="1219320" y="457200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gosauru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gosauru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d a spiked tail that it used to protect itsel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used its plates for prot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ate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dinosaur walked on four legs, but its back legs were twice as long as its front le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bout 30 feet long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029200" y="3581280"/>
            <a:ext cx="3686040" cy="3125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Stegosaurus"/>
          <p:cNvPicPr/>
          <p:nvPr/>
        </p:nvPicPr>
        <p:blipFill>
          <a:blip r:embed="rId2"/>
          <a:stretch/>
        </p:blipFill>
        <p:spPr>
          <a:xfrm>
            <a:off x="838080" y="4038480"/>
            <a:ext cx="335304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iceratops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ceratop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eans "three horned face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had three sharp horns for prot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25-30 feet long and 9 1/2 feet t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ate grass, bushes, leaves and ber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Triceratops - click on the picture to go back"/>
          <p:cNvPicPr/>
          <p:nvPr/>
        </p:nvPicPr>
        <p:blipFill>
          <a:blip r:embed="rId1"/>
          <a:stretch/>
        </p:blipFill>
        <p:spPr>
          <a:xfrm>
            <a:off x="4572000" y="3316320"/>
            <a:ext cx="4381560" cy="3324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2280" y="3962520"/>
            <a:ext cx="41911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rniv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rnivor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dn’t eat pla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ate animals, including smaller dinosa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people were around, these fierce animals might have eaten th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Image: Dinosaur siege"/>
          <p:cNvPicPr/>
          <p:nvPr/>
        </p:nvPicPr>
        <p:blipFill>
          <a:blip r:embed="rId1"/>
          <a:stretch/>
        </p:blipFill>
        <p:spPr>
          <a:xfrm>
            <a:off x="1752480" y="25909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rannosaurus R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yrannosaurus Rex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means "tyrant reptile."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t had really big jaws that were razor-shar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ts teeth were six inches long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t stood on its hind legs, and it had two tiny feet in the front.  It dragged its tail behin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t was the biggest meat-eating animal that ever lived and the last dinosaur to walk the earth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Tyrannosaurus - click on the picture to go back"/>
          <p:cNvPicPr/>
          <p:nvPr/>
        </p:nvPicPr>
        <p:blipFill>
          <a:blip r:embed="rId1"/>
          <a:stretch/>
        </p:blipFill>
        <p:spPr>
          <a:xfrm>
            <a:off x="3657600" y="3733920"/>
            <a:ext cx="5143680" cy="2500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Tyrannosaurus - from 'Tracks of the Giants - click on the picture to go back"/>
          <p:cNvPicPr/>
          <p:nvPr/>
        </p:nvPicPr>
        <p:blipFill>
          <a:blip r:embed="rId2"/>
          <a:stretch/>
        </p:blipFill>
        <p:spPr>
          <a:xfrm>
            <a:off x="228600" y="4191120"/>
            <a:ext cx="329580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4:41:44Z</dcterms:created>
  <dc:creator>lridings</dc:creator>
  <dc:description/>
  <dc:language>en-US</dc:language>
  <cp:lastModifiedBy>lridings</cp:lastModifiedBy>
  <dcterms:modified xsi:type="dcterms:W3CDTF">2009-05-07T18:31:55Z</dcterms:modified>
  <cp:revision>4</cp:revision>
  <dc:subject/>
  <dc:title>Dinosaurs</dc:title>
</cp:coreProperties>
</file>