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51C-BBF0-4369-BFEE-6DFC08A0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444C-D04F-4F05-850C-1BBA70E8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CFDE-C3FD-4E4E-8C5B-74300680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0D55-58A8-4AAD-A927-7CA53CC7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541A-608F-44CE-B835-8748DB9D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6142-8C08-4116-A8AF-79146188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9CA5-3104-42C2-9BD8-C5F4DAA0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6854-AF33-4821-BEFD-E83488F3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240C-6D2F-4D7E-A12E-9988980D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2E24-6BD4-4B9D-BCBF-9AA94820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78B2-4945-4553-95AD-13AD4DAD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5084-3644-49D4-8DB7-DFBE4C29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44D7-4A96-4046-8217-246C08FD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92A8-E303-47C2-84C9-1CC66DB9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AAEF-8333-4C88-9566-EAEE216A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D403-FF72-4535-85FB-291CD8A7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BB0F-C3AE-423B-B03D-90988415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F31-7BD2-41FA-9160-9B171C58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7A46-E9E0-4110-A74D-BE2C5872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9061-28F6-47B0-9D55-D6EAEB65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938-D92F-4CE7-8343-C740622E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E24-E51F-494E-8AE7-472D7D78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9B2-FA8A-4389-B967-914174F7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32D-FF17-4B60-A1BE-D5A072F7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8F9D-F5C0-42D5-B066-44091C620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291F-5DF8-4F56-9D77-1B085DB27B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bskids.org/krattscreatures/flash.shtml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Amazing Adapt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2286000"/>
            <a:ext cx="4267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Jokerman"/>
              </a:rPr>
              <a:t>Amazing Adaptations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6338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pring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Body Adapt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828800" y="1806480"/>
            <a:ext cx="5867280" cy="4399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359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Present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As you view the following slideshow, watch for the words we have been discu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You may need to adjust your word groupings as we work through the presen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86200" y="4419720"/>
            <a:ext cx="1173240" cy="1752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44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Video (Under Construction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949560" cy="4419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5722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Animal Adaptations Men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Jokerman"/>
              </a:rPr>
              <a:t>Activity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Jokerman"/>
              </a:rPr>
              <a:t>Please click on the dog to further explore animal adaptations.  Use the Activity Sheet to record your find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Jokerman"/>
              </a:rPr>
              <a:t>Activity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Jokerman"/>
              </a:rPr>
              <a:t>Choose an environment card and create an animal with adaptations to survive in that setting.  You may present your animal in any way you choose (write, draw, sing, act, etc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4419720"/>
            <a:ext cx="1015920" cy="1523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609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For further investigation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http://www.ecokids.ca/pub/eco_info/topics/climate/adaptations/index.cf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http://www.harcourtschool.com/activity/animalneeds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http://www.abc.net.au/rollercoaster/games/games/s1307685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Taxonomy of Anima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List the letters of the alphabet down the left margin of your paper (A to 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List an animal word for each letter you have listed until the time is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Next, share your list with the members of your team; however, you must explain why you listed each 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As we continue our study, feel free to add animal words to your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List, Group, Labe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Remove the words from your envel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Organize your words in any way that you cho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Be ready to explain your thin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As we move through the next few slides, you may move your words into new groups or categ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Hiberna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3124440" cy="3036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3429000" cy="3070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04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Migra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095880" cy="4029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856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Body Covering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2238480"/>
            <a:ext cx="3740040" cy="2798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29280" y="1600200"/>
            <a:ext cx="3074760" cy="2187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257800" y="3886200"/>
            <a:ext cx="284004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Mimicry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2363760"/>
            <a:ext cx="4495680" cy="271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81480" y="4343400"/>
            <a:ext cx="2954520" cy="2187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105520" y="1447920"/>
            <a:ext cx="3062160" cy="2620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50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Colora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47920" y="1893960"/>
            <a:ext cx="647676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Behavior Adapt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419720" cy="2768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876920" y="2208240"/>
            <a:ext cx="4038480" cy="3005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964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4:00:57Z</dcterms:created>
  <dc:creator>training123</dc:creator>
  <dc:description/>
  <dc:language>en-US</dc:language>
  <cp:lastModifiedBy>training123</cp:lastModifiedBy>
  <dcterms:modified xsi:type="dcterms:W3CDTF">2009-05-07T18:35:31Z</dcterms:modified>
  <cp:revision>6</cp:revision>
  <dc:subject/>
  <dc:title>Amazing Adaptations</dc:title>
</cp:coreProperties>
</file>