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A92-8177-4F29-BAEA-29684F82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E7A-D489-47DE-A731-2E9FDCE8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E10-2584-4ED2-B1F8-7542F445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555-6DA4-4FB4-9FD4-2EFEF951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BB39-31F8-4579-9539-7DEF42FC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1CB7-157C-43C9-9144-8AF07C55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7A0C-2C25-4887-AE9B-F2BB25B0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E929-6D15-4BA5-A2ED-157A92A1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2796-821E-4452-8B1C-180F740D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726A-EC68-4041-B3A4-6FA1FF62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BB65-197D-469B-82C6-1FBA6A5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AE9-EB75-43B1-B6E1-D086AF22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33B3-60C7-4F65-B4ED-B997FE14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535A-8D0B-4349-8D5A-DB2CA117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B7DB-F466-42C7-BD81-B37353E2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1ACC-D18B-4E16-BE77-49A33848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524B-715A-4DC1-B7FF-7C3581C9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5A4-327C-42E7-970A-B59BDD9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29E-A47B-4F37-B2EB-0285FB87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5A0-40AD-48CF-825F-911C1AFA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D46-5E1C-4BA4-A4E8-3A43D462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43D-ED4F-439C-AF36-86501CAA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C83-77DF-445A-BFF0-6F7D9BC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E59-AF5F-4EAC-A55D-BB815A7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40A5-B1A7-46CD-8E91-A780486B5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E9E6-AE7A-48ED-B0A7-779E84E06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bskids.org/krattscreatures/flash.shtml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mazing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286000"/>
            <a:ext cx="4267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Jokerman"/>
              </a:rPr>
              <a:t>Amazing Adaptation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6338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pring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28800" y="1806480"/>
            <a:ext cx="5867280" cy="439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5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Presen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you view the following slideshow, watch for the words we have been discu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You may need to adjust your word groupings as we work through the pres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117324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4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Video (Under Construction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956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72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Animal Adaptations Men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Please click on the dog to further explore animal adaptations.  Use the Activity Sheet to record your find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Activity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Jokerman"/>
              </a:rPr>
              <a:t>Choose an environment card and create an animal with adaptations to survive in that setting.  You may present your animal in any way you choose (write, draw, sing, act, 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41972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0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For further investigat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ecokids.ca/pub/eco_info/topics/climate/adaptations/index.cf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harcourtschool.com/activity/animalneed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http://www.abc.net.au/rollercoaster/games/games/s1307685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Taxonomy of Anim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the letters of the alphabet down the left margin of your paper (A to 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List an animal word for each letter you have listed until the time is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Next, share your list with the members of your team; however, you must explain why you listed each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continue our study, feel free to add animal words to you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Jokerman"/>
              </a:rPr>
              <a:t>List, Group, Labe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Remove the words from your 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Organize your words in any way that you cho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Be ready to explain you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Joker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As we move through the next few slides, you may move your words into new groups or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Hibern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12444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307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g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095880" cy="4029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5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ody Covering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38480"/>
            <a:ext cx="3740040" cy="2798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29280" y="1600200"/>
            <a:ext cx="307476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28400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Mimicr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363760"/>
            <a:ext cx="4495680" cy="271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2954520" cy="218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062160" cy="2620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0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Coloratio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1893960"/>
            <a:ext cx="647676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Jokerman"/>
              </a:rPr>
              <a:t>Behavior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419720" cy="276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76920" y="2208240"/>
            <a:ext cx="4038480" cy="3005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9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0:57Z</dcterms:created>
  <dc:creator>training123</dc:creator>
  <dc:description/>
  <dc:language>en-US</dc:language>
  <cp:lastModifiedBy>training123</cp:lastModifiedBy>
  <dcterms:modified xsi:type="dcterms:W3CDTF">2009-05-07T18:35:31Z</dcterms:modified>
  <cp:revision>6</cp:revision>
  <dc:subject/>
  <dc:title>Amazing Adaptations</dc:title>
</cp:coreProperties>
</file>