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FE9-3E13-4F91-AD87-FE070274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482-24B1-4E65-A523-813D8E5C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4EB-88A0-461A-BD01-F2E8E20B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1F0-78B0-4401-B649-A63517EA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37EC-1404-46A1-A763-B8E39461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B2B9-8A75-48C2-A0EC-FDDDAD1E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C276-13F3-44A6-92B4-1CF439F2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6098-3D36-439A-A4EC-4FED2841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6605-D795-4DE6-85BA-31944D16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D54A-AC70-4D32-A93D-D543419F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3C43-B9D3-455A-8092-77A80F18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DBE-D3E4-4856-B017-28B8DAB2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0EEB-14CB-4117-BEAC-584B1BB1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037F-331F-4F8E-A410-AE6B3B70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DAD7-753B-40E1-917A-5AFE20B3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649F-3F5A-4C51-9B24-AD215EAB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1F44-3AA8-416C-BA05-E466A180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9B5-63BA-4116-BA6D-098B480B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FA4-5303-41D9-8667-5DC06B86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D2D-9A5F-41EA-B512-1D09982F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A9A-AE40-4F57-A79D-C807FD7D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515-7C71-446E-84B5-025E652C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5E4-CA14-450C-89A4-57781393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83A-AE2B-494D-9059-32B4A729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7561-EBDC-4465-B94B-1A19F0913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3AFE-F88B-49CC-8D60-27F1AE2F5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bskids.org/krattscreatures/flash.shtml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mazing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286000"/>
            <a:ext cx="4267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Jokerman"/>
              </a:rPr>
              <a:t>Amazing Adaptation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6338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pring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ody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28800" y="1806480"/>
            <a:ext cx="5867280" cy="439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5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Presen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you view the following slideshow, watch for the words we have been discu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You may need to adjust your word groupings as we work through the pres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1173240" cy="1752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4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Video (Under Construction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4956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722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Animal Adaptations Men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Activity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okerman"/>
              </a:rPr>
              <a:t>Please click on the dog to further explore animal adaptations.  Use the Activity Sheet to record your find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Activity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okerman"/>
              </a:rPr>
              <a:t>Choose an environment card and create an animal with adaptations to survive in that setting.  You may present your animal in any way you choose (write, draw, sing, act, 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441972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60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For further investigation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ecokids.ca/pub/eco_info/topics/climate/adaptations/index.cf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harcourtschool.com/activity/animalneed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abc.net.au/rollercoaster/games/games/s1307685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Taxonomy of Anim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List the letters of the alphabet down the left margin of your paper (A to 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List an animal word for each letter you have listed until the time is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Next, share your list with the members of your team; however, you must explain why you listed each 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we continue our study, feel free to add animal words to your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List, Group, Labe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Remove the words from your envel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Organize your words in any way that you cho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Be ready to explain your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we move through the next few slides, you may move your words into new groups or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Hibern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124440" cy="3036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29000" cy="3070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4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Migr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095880" cy="4029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56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ody Covering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38480"/>
            <a:ext cx="3740040" cy="2798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29280" y="1600200"/>
            <a:ext cx="3074760" cy="218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28400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Mimicr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363760"/>
            <a:ext cx="4495680" cy="271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81480" y="4343400"/>
            <a:ext cx="2954520" cy="2187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105520" y="1447920"/>
            <a:ext cx="3062160" cy="2620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50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Color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47920" y="1893960"/>
            <a:ext cx="647676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ehavior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419720" cy="2768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76920" y="2208240"/>
            <a:ext cx="4038480" cy="3005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96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00:57Z</dcterms:created>
  <dc:creator>training123</dc:creator>
  <dc:description/>
  <dc:language>en-US</dc:language>
  <cp:lastModifiedBy>training123</cp:lastModifiedBy>
  <dcterms:modified xsi:type="dcterms:W3CDTF">2009-05-07T18:35:31Z</dcterms:modified>
  <cp:revision>6</cp:revision>
  <dc:subject/>
  <dc:title>Amazing Adaptations</dc:title>
</cp:coreProperties>
</file>