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0B8-2CB0-4B61-AD66-AF3393BD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A28-0E27-4A24-8236-B828A27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581-0F6B-4F9E-A6A1-506365FC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D43-CFDF-4FD8-9365-A9E79571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2205-4D6F-429A-9EDB-7D46A3D1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AFE4-42D2-4E41-8EC6-5E6CFA1A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D5B-47C9-4AE1-BD57-8AFAA7B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7CE7-2BFD-4572-A1DC-19CA7B8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DB0B-6B08-496B-B1A0-02179B7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A91-A538-43D3-A90C-4DB57A0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AC9B-734A-4785-8D30-48C3FAA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0C1-6CBF-4F52-BF82-6AA06462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DA53-F499-489C-8558-49B7962A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4AA7-7066-42AF-8F26-2DD7F4D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B604-CAA3-4E9F-B4CA-5B8E46E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78C4-A012-4547-8873-2D460FC6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19DA-3BD5-41CF-99C6-F7D57B8A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368-F515-462E-970B-F7B3D642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B35-5177-42DA-AABC-0B325B67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06C-07F7-4323-B175-BA435D09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EAF-E6A6-43C4-B8FA-14E112EA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953-E168-4620-AD29-7B22374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AD8-A44E-497C-AC6B-9F71FED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663-3F17-4AC7-A7A6-A4894E8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C6BA-23A6-43C5-927F-81DB01A70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859-C0AD-4969-85E8-E0418D5CD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bskids.org/krattscreatures/flash.s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mazing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6000"/>
            <a:ext cx="426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Jokerman"/>
              </a:rPr>
              <a:t>Amazing Adaptation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6338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pring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806480"/>
            <a:ext cx="5867280" cy="439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5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Presen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you view the following slideshow, watch for the words we have been discu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You may need to adjust your word groupings as we work through the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7324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Video (Under Construction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956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72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Animal Adaptations M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Please click on the dog to further explore animal adaptations.  Use the Activity Sheet to record your find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Choose an environment card and create an animal with adaptations to survive in that setting.  You may present your animal in any way you choose (write, draw, sing, act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197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For further investigat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ecokids.ca/pub/eco_info/topics/climate/adaptations/index.cf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harcourtschool.com/activity/animalneed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abc.net.au/rollercoaster/games/games/s1307685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Taxonomy of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the letters of the alphabet down the left margin of your paper (A to 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an animal word for each letter you have listed until the time i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Next, share your list with the members of your team; however, you must explain why you listed each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continue our study, feel free to add animal words to you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List, Group, Labe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Remove the words from your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rganize your words in any way that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Be ready to explain you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move through the next few slides, you may move your words into new groups 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Hibern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12444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30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g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9588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Covering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38480"/>
            <a:ext cx="3740040" cy="279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29280" y="1600200"/>
            <a:ext cx="30747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840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micr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271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95452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0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Colo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93960"/>
            <a:ext cx="6476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ehavior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1972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76920" y="220824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0:57Z</dcterms:created>
  <dc:creator>training123</dc:creator>
  <dc:description/>
  <dc:language>en-US</dc:language>
  <cp:lastModifiedBy>training123</cp:lastModifiedBy>
  <dcterms:modified xsi:type="dcterms:W3CDTF">2009-05-07T18:35:31Z</dcterms:modified>
  <cp:revision>6</cp:revision>
  <dc:subject/>
  <dc:title>Amazing Adaptations</dc:title>
</cp:coreProperties>
</file>