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99D-C62F-402E-9BEA-A974995F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3C4-B0B5-4523-BDBB-3F811E7C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2A5-0E3A-4761-824C-26F980C2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AFD-062F-4B8F-9A6D-BEF56308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1BD1-53D9-4FE7-A3A1-D353A6E3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0E05-5A0F-4973-BE72-7B5974BB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BA32-68CC-430E-8552-FEEB36BA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86D0-9550-41FB-BC40-2A05393B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1396-4585-4E5C-8383-FCCEF1EF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C3E6-BCB2-4B25-86D4-FDAE206A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32D2-BE3A-4D7D-A6D3-659EB4D6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F88-489A-4D0D-9AFD-A64FC5C2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6FCE-3F10-4198-8953-2CF0A8EC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2BBB-DB0B-4538-8858-A584CDF6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6DEB-71D2-486B-BC53-E473BFE8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590B-23EE-45CA-9867-1F7CAA61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ED04-A464-425F-B469-8CDA4836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664-6D67-4F91-9DC5-11289B49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508-1F7E-4923-88F9-6DD319C2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2CF-0D0B-46CF-9BDF-E146A7CD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1A4-0912-43A7-8347-D9DF0725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FAC-7F94-4CB8-AF9D-13BF6F0F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5DF-C382-4113-98FE-3E29C47D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FF1-D939-4379-ABC2-7C44634A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908C-0493-42B2-A8D1-542416801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514C-F891-41CB-B756-5A6289526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bskids.org/krattscreatures/flash.shtml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mazing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286000"/>
            <a:ext cx="4267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Jokerman"/>
              </a:rPr>
              <a:t>Amazing Adaptations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6338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pring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Body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828800" y="1806480"/>
            <a:ext cx="5867280" cy="4399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359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Presen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As you view the following slideshow, watch for the words we have been discu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You may need to adjust your word groupings as we work through the presen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86200" y="4419720"/>
            <a:ext cx="1173240" cy="1752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44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Video (Under Construction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94956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5722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Animal Adaptations Men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Activity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Jokerman"/>
              </a:rPr>
              <a:t>Please click on the dog to further explore animal adaptations.  Use the Activity Sheet to record your find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Activity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Jokerman"/>
              </a:rPr>
              <a:t>Choose an environment card and create an animal with adaptations to survive in that setting.  You may present your animal in any way you choose (write, draw, sing, act, etc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441972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609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For further investigation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http://www.ecokids.ca/pub/eco_info/topics/climate/adaptations/index.cf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http://www.harcourtschool.com/activity/animalneed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http://www.abc.net.au/rollercoaster/games/games/s1307685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Taxonomy of Anima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List the letters of the alphabet down the left margin of your paper (A to 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List an animal word for each letter you have listed until the time is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Next, share your list with the members of your team; however, you must explain why you listed each 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As we continue our study, feel free to add animal words to your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List, Group, Labe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Remove the words from your envel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Organize your words in any way that you cho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Be ready to explain your thin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As we move through the next few slides, you may move your words into new groups or categ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Hiberna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124440" cy="3036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429000" cy="3070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04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Migra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095880" cy="4029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856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Body Covering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238480"/>
            <a:ext cx="3740040" cy="2798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29280" y="1600200"/>
            <a:ext cx="3074760" cy="2187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284004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Mimicry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2363760"/>
            <a:ext cx="4495680" cy="271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81480" y="4343400"/>
            <a:ext cx="2954520" cy="2187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105520" y="1447920"/>
            <a:ext cx="3062160" cy="2620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50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Colora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47920" y="1893960"/>
            <a:ext cx="647676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Behavior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419720" cy="2768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876920" y="2208240"/>
            <a:ext cx="4038480" cy="3005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964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00:57Z</dcterms:created>
  <dc:creator>training123</dc:creator>
  <dc:description/>
  <dc:language>en-US</dc:language>
  <cp:lastModifiedBy>training123</cp:lastModifiedBy>
  <dcterms:modified xsi:type="dcterms:W3CDTF">2009-05-07T18:35:31Z</dcterms:modified>
  <cp:revision>6</cp:revision>
  <dc:subject/>
  <dc:title>Amazing Adaptations</dc:title>
</cp:coreProperties>
</file>