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4D5-7069-4F24-B807-6AEDA6C5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E34-096D-4953-A84B-871FAA24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DC9-E4B3-40DB-89C8-C625E6B5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50B-9148-4DE3-A9C2-073CEE64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456-660A-4F78-ACF6-573A343C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6CC-11CF-4DF2-9D66-7A7FC086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FC1-8A84-46B2-8E08-B08D2009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3CC-92C9-4BD5-8A75-6212D4F3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4FD-3528-4FFE-8D89-B7C674F5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185-53F3-45C3-A20E-8EF94897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5B2-8970-47E2-8AE4-F53D1892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F9E-2FB8-443C-9311-30C0F74F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409E-29B6-4308-AC55-458F4294E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appening to our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40516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58580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1832040" cy="183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58000" y="304920"/>
            <a:ext cx="1825560" cy="1825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505320" y="582480"/>
            <a:ext cx="19810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th is living and dying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your group of three discuss what this phrase means to you. (3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hare with the group to your left. (2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e together and share as a large group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is living and dying, all the time creating and destroying its own surface,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complete phrase change your understanding of the phrase or does it change your understanding? Discuss with your elbow partner. You have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arth is living and dying, all the time creating and destroying its own surface,” said the legendary TV journalist Walter Cronkite. “It is a body in motion, alive—and in its vitality, awesome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Volcan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What changes occur to our earth due to volcanic a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agram of Hawaiian volcano magma reservoir and deformation-monitoring stations before inflation begins"/>
          <p:cNvPicPr/>
          <p:nvPr/>
        </p:nvPicPr>
        <p:blipFill>
          <a:blip r:embed="rId1"/>
          <a:stretch/>
        </p:blipFill>
        <p:spPr>
          <a:xfrm>
            <a:off x="1828800" y="2819520"/>
            <a:ext cx="4952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936720"/>
            <a:ext cx="62485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765000"/>
            <a:ext cx="655308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50:37Z</dcterms:created>
  <dc:creator>training123</dc:creator>
  <dc:description/>
  <dc:language>en-US</dc:language>
  <cp:lastModifiedBy>training123</cp:lastModifiedBy>
  <dcterms:modified xsi:type="dcterms:W3CDTF">2009-05-07T19:21:22Z</dcterms:modified>
  <cp:revision>9</cp:revision>
  <dc:subject/>
  <dc:title>CHANGES </dc:title>
</cp:coreProperties>
</file>