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15A-C9D6-4E9C-9888-13E59359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A2D-22FC-4DF9-97FD-B3E2BA3A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F7A-5346-4B05-9452-4C95FF04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374-BC65-4CA6-AB6D-541C271E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33C-8B65-4EFA-9E85-8798C9B1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FD9-E82B-45DF-ADF8-945E4D63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9B0-B875-43DC-AA65-2E953C03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E05-A670-49AE-A730-A6C14D74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26A-2A1C-44EA-A0DD-BD6465D1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949-B322-4B36-AFD5-DBE6A0FE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342-0586-40FF-9765-54240AD2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758-F21F-4E04-99CD-77BB5EC7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D90B-02CE-4553-A9C1-A7AACEEB0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ing to our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40516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58580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1832040" cy="183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58000" y="304920"/>
            <a:ext cx="1825560" cy="1825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505320" y="582480"/>
            <a:ext cx="19810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th is living and dying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your group of three discuss what this phrase means to you.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hare with the group to your left. (2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e together and share as a large group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is living and dying, all the time creating and destroying its own surface,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complete phrase change your understanding of the phrase or does it change your understanding? Discuss with your elbow partner. You have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arth is living and dying, all the time creating and destroying its own surface,” said the legendary TV journalist Walter Cronkite. “It is a body in motion, alive—and in its vitality, awesome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Volcan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What changes occur to our earth due to volcanic a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agram of Hawaiian volcano magma reservoir and deformation-monitoring stations before inflation begins"/>
          <p:cNvPicPr/>
          <p:nvPr/>
        </p:nvPicPr>
        <p:blipFill>
          <a:blip r:embed="rId1"/>
          <a:stretch/>
        </p:blipFill>
        <p:spPr>
          <a:xfrm>
            <a:off x="1828800" y="2819520"/>
            <a:ext cx="4952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936720"/>
            <a:ext cx="6248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765000"/>
            <a:ext cx="655308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50:37Z</dcterms:created>
  <dc:creator>training123</dc:creator>
  <dc:description/>
  <dc:language>en-US</dc:language>
  <cp:lastModifiedBy>training123</cp:lastModifiedBy>
  <dcterms:modified xsi:type="dcterms:W3CDTF">2009-05-07T19:21:22Z</dcterms:modified>
  <cp:revision>9</cp:revision>
  <dc:subject/>
  <dc:title>CHANGES </dc:title>
</cp:coreProperties>
</file>