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87E-9697-4C4D-85AC-7E9DDF5E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ABF-9AD3-45BE-AACB-C5A9549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AF9-4A5D-457F-B221-EB3DE885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6AA-A0E2-4D48-B278-439ED575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317-E548-49C4-9C4D-42644759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6B3-7FA8-4B5D-9969-E203881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76E-ACE4-4D49-88AE-86AE5EB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EB3-AADC-42BA-BF2D-5EC13F8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86E-A431-4C83-A318-E922C1E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074-00A8-44D8-9071-7B3DB0B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9FA-9B14-4DF1-8818-13AD281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380-0D70-465F-BB4E-C1CD14F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706-E4D1-41D4-8DA7-A1AB13AB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ing to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405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5858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832040" cy="183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58000" y="30492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05320" y="582480"/>
            <a:ext cx="1981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th is living and dying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your group of three discuss what this phrase means to you.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are with the group to your left. (2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e together and share as a large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is living and dying, all the time creating and destroying its own surface,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mplete phrase change your understanding of the phrase or does it change your understanding? Discuss with your elbow partner. You have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arth is living and dying, all the time creating and destroying its own surface,” said the legendary TV journalist Walter Cronkite. “It is a body in motion, alive—and in its vitality, awesom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Volcan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What changes occur to our earth due to volcanic 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agram of Hawaiian volcano magma reservoir and deformation-monitoring stations before inflation begins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3672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765000"/>
            <a:ext cx="655308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0:37Z</dcterms:created>
  <dc:creator>training123</dc:creator>
  <dc:description/>
  <dc:language>en-US</dc:language>
  <cp:lastModifiedBy>training123</cp:lastModifiedBy>
  <dcterms:modified xsi:type="dcterms:W3CDTF">2009-05-07T19:21:22Z</dcterms:modified>
  <cp:revision>9</cp:revision>
  <dc:subject/>
  <dc:title>CHANGES </dc:title>
</cp:coreProperties>
</file>