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63B-679D-4905-A8CA-E856A1BB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AE8-0456-4B33-9C5E-87AFDE10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AEC-1A2E-48FC-BAC2-CDD8E5BA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48E-A840-4E4E-9346-948E1728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3B8-1D57-40F7-9DF4-1075ADE0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C81-DE3A-492B-A66F-320DD5C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DF2-CB5A-4BFB-8F80-41E5990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7D7-7E01-47D1-9550-663A52D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65E-CE18-4812-AC62-C759B821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F53-5044-4766-A860-ACA17A7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6B7-8949-4F3A-B1FD-C9FF226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F03-090C-4C82-A901-5BF56C9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49BB-0B5B-4BE8-9D3B-782B32AD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ing to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405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858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832040" cy="183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05320" y="582480"/>
            <a:ext cx="1981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 is living and dying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your group of three discuss what this phrase means to you.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are with the group to your left. (2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e together and share as a large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is living and dying, all the time creating and destroying its own surface,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mplete phrase change your understanding of the phrase or does it change your understanding? Discuss with your elbow partner. You have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arth is living and dying, all the time creating and destroying its own surface,” said the legendary TV journalist Walter Cronkite. “It is a body in motion, alive—and in its vitality, awesom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Volcan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What changes occur to our earth due to volcanic 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agram of Hawaiian volcano magma reservoir and deformation-monitoring stations before inflation begins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3672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765000"/>
            <a:ext cx="655308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0:37Z</dcterms:created>
  <dc:creator>training123</dc:creator>
  <dc:description/>
  <dc:language>en-US</dc:language>
  <cp:lastModifiedBy>training123</cp:lastModifiedBy>
  <dcterms:modified xsi:type="dcterms:W3CDTF">2009-05-07T19:21:22Z</dcterms:modified>
  <cp:revision>9</cp:revision>
  <dc:subject/>
  <dc:title>CHANGES </dc:title>
</cp:coreProperties>
</file>