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19B-11C3-4CA9-A35F-B0052D5E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837-F3E3-4EE3-A813-84458CE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F91-5A35-4781-867D-42B5140F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78F-81F5-43A0-8732-C5620F26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DFDB-72E5-4481-B28A-7EB10552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9724-A356-4541-8508-D2D24E4B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30F9-CE0C-40E4-9C0E-6065D57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544-20DD-4F02-ACDC-40512BB9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0EA5-0EA2-40E9-B63B-3651CB5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411A-34FC-4738-813F-DD5F68EC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CDEE-70B5-4EA2-8381-BFEA250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4B7-9D3A-4240-ABB2-40C569D9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343F-A837-4973-B326-E34A2C0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7F7B-39F2-45D4-8C01-ADD9F60D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0FA0-286B-4B24-8DEB-DCF4AF2D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E2F7-9B47-4F99-8A96-7EFB00C0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CCB1-6083-4A3A-9F70-8A4EC53E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C5D-0285-4F5E-9408-4544959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2C1-C193-4589-B4BA-F41DD3C5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68C-A150-4364-9AE7-4D21EF1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812-B522-4ED7-8EF2-7515DDE5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315-D21A-4851-BDFE-127E633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7FB-9F97-4991-886F-CDF075B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287-76AB-4B44-9454-EFFFEE3D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D98E-B094-4D1C-98D4-4C45DD141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AFB8-8758-4AF1-9A6F-131BB3077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afari460/?a=49146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dirtrep/erosion/invest.htm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Curlz MT"/>
              </a:rPr>
              <a:t>Standard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nguage Arts: GLE 0401.1.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knowledge of strategies and resources to determine the definition, pronunciation, and usage of words and phr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cience: GLE 0407.7.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how the Earth’s geological features change as a result of erosion (weathering and transportation) and de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th: GLE 0406.1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y and adapt a variety of appropriate strategies to problem solving, including estimation, and reasonableness of the solu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xonomy of The Shaping of the Land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letters of the alphabet down the margin of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a word for each letter that reminds you of how the land around you has been sha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taxonomy. Are these words included? Share your list and thoughts with a part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101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mage to view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86000"/>
            <a:ext cx="3276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stigate the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picture to investigate the fac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95480"/>
            <a:ext cx="4191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moving rivers can carve deep valleys. Investigate a river system. Write about a trip down the river. Think about how you overcome the problems you are faced with. Make sure you use your vocabulary words in your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2082600" cy="2089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1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water and wind wear down the earth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your group, develop a short program to show how the earth changes. You may express your knowledge in a play, skit, poem ,song or drawing. We can’t wait to view your cre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27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take your journey down the river, you are faced with a draw bridge. The bridge passage is 15 ft. wide and the overhead space is 20 ft. What is the area of the ope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62520" y="3878280"/>
            <a:ext cx="42321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24:56Z</dcterms:created>
  <dc:creator>training123</dc:creator>
  <dc:description/>
  <dc:language>en-US</dc:language>
  <cp:lastModifiedBy>training123</cp:lastModifiedBy>
  <dcterms:modified xsi:type="dcterms:W3CDTF">2009-05-07T18:29:41Z</dcterms:modified>
  <cp:revision>17</cp:revision>
  <dc:subject/>
  <dc:title>Erosion</dc:title>
</cp:coreProperties>
</file>