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310-3610-4E3F-8ECA-74E2523E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0222-2D97-407C-BF41-4EDA8188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8C8-437D-498B-94F1-3A633BA2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867-FB36-4114-8676-C08F18E2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1BF5-248D-4FFD-9D1B-5529EA97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2E8E-6AE1-412F-ABCE-8EBA4400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C604-34A9-4124-BD5A-17DDA7BF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E0A2-44B8-4896-B274-8A98D54F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E87E-F8F8-42A6-9EF2-5EA55E6A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E928-7128-4B2F-B781-8ECA8E63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7504-F80B-4BD0-80DD-E8DCF243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8A2-C953-489D-AD3C-66E847B9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B72C-889D-480B-92CD-643BF210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F8EF-09E0-4BBF-9C13-126ED87E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2BD7-998C-435F-878C-9D73B19A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1229-288A-4F7E-805C-2791CDAE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8777-852D-4824-A391-C0CDB64D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192-F1E9-40A4-81E2-3AF3837F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9FB-33F3-4E35-AB87-69E1DC95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7DE-5578-4898-A8E4-1AB496C3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211-3B59-486B-B1A8-1BAC0312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3F8-B681-4889-9C60-223F1728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76E-853B-4E3A-A8B3-2674FE3A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136-7DAF-49BF-84C8-A4FE0401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017C-4EEC-48D2-A6D2-63882076D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0F60-63B2-471D-A842-BA1611F2F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afari460/?a=49146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eacher.scholastic.com/dirtrep/erosion/invest.htm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ros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ing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Curlz MT"/>
              </a:rPr>
              <a:t>Standard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02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nguage Arts: GLE 0401.1.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knowledge of strategies and resources to determine the definition, pronunciation, and usage of words and phra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02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cience: GLE 0407.7.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how the Earth’s geological features change as a result of erosion (weathering and transportation) and depo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02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th: GLE 0406.1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ly and adapt a variety of appropriate strategies to problem solving, including estimation, and reasonableness of the solu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axonomy of The Shaping of the Land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e letters of the alphabet down the margin of your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about a word for each letter that reminds you of how the land around you has been sha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i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your taxonomy. Are these words included? Share your list and thoughts with a partn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41018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o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image to view 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286000"/>
            <a:ext cx="32767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stigate the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picture to investigate the fac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895480"/>
            <a:ext cx="4191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moving rivers can carve deep valleys. Investigate a river system. Write about a trip down the river. Think about how you overcome the problems you are faced with. Make sure you use your vocabulary words in your wr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562720" y="4419720"/>
            <a:ext cx="2082600" cy="2089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9144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51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n water and wind wear down the earth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your group, develop a short program to show how the earth changes. You may express your knowledge in a play, skit, poem ,song or drawing. We can’t wait to view your cre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27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take your journey down the river, you are faced with a draw bridge. The bridge passage is 15 ft. wide and the overhead space is 20 ft. What is the area of the ope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62520" y="3878280"/>
            <a:ext cx="423216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24:56Z</dcterms:created>
  <dc:creator>training123</dc:creator>
  <dc:description/>
  <dc:language>en-US</dc:language>
  <cp:lastModifiedBy>training123</cp:lastModifiedBy>
  <dcterms:modified xsi:type="dcterms:W3CDTF">2009-05-07T18:29:41Z</dcterms:modified>
  <cp:revision>17</cp:revision>
  <dc:subject/>
  <dc:title>Erosion</dc:title>
</cp:coreProperties>
</file>