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B57-E8D6-4FE8-B583-C3344840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8C0-7736-401B-B83F-DC616C10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761-8232-42E2-94C7-00AEF738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473-5D74-4BCC-A35A-3F2E13E5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73E6-F9D5-4658-A43A-812ADE3E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2EA3-DDBF-4152-B18E-7B62AE40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210D-23FF-496C-B693-5E45D2B6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A5FE-FBBF-48B0-AA5F-705E631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2C4E-5780-441F-8C4B-98B9AC45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7701-587A-439B-B072-9109BBAA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7C4D-91FC-4659-829E-4EEF748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5EB-9BA5-40A2-B023-A98FEC72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7B94-C4A5-4E7A-B93C-EF3EA9C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77B5-269F-4FEF-814E-7F2BD260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AE2E-935C-423C-AAD6-B445827A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032F-1602-4144-B379-11C5775A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0FE8-7549-44D7-8FCC-6284F1E2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25E-B5FD-42E3-813E-0EA50A0D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BCD-A59D-412C-9F15-3A61275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FE7-B4FE-4FB2-B746-4E37E63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468-E04F-4976-83F4-45AD1A38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27F-9545-48CB-B8F7-330538B3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90D-43A3-4072-940F-BD79677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3CA-952B-46B7-9086-FA87DE6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24EF-5C35-40BE-81AC-FB0F8ADE5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4C7A-73A2-4789-AD16-0C56A19AC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afari460/?a=49146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dirtrep/erosion/invest.htm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Curlz MT"/>
              </a:rPr>
              <a:t>Standard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nguage Arts: GLE 0401.1.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knowledge of strategies and resources to determine the definition, pronunciation, and usage of words and phr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cience: GLE 0407.7.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how the Earth’s geological features change as a result of erosion (weathering and transportation) and de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th: GLE 0406.1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y and adapt a variety of appropriate strategies to problem solving, including estimation, and reasonableness of the solu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xonomy of The Shaping of the Land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letters of the alphabet down the margin of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a word for each letter that reminds you of how the land around you has been sha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taxonomy. Are these words included? Share your list and thoughts with a part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101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image to view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286000"/>
            <a:ext cx="3276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stigate the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picture to investigate the fac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95480"/>
            <a:ext cx="4191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moving rivers can carve deep valleys. Investigate a river system. Write about a trip down the river. Think about how you overcome the problems you are faced with. Make sure you use your vocabulary words in your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2082600" cy="2089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1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water and wind wear down the earth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your group, develop a short program to show how the earth changes. You may express your knowledge in a play, skit, poem ,song or drawing. We can’t wait to view your cre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27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take your journey down the river, you are faced with a draw bridge. The bridge passage is 15 ft. wide and the overhead space is 20 ft. What is the area of the ope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62520" y="3878280"/>
            <a:ext cx="42321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24:56Z</dcterms:created>
  <dc:creator>training123</dc:creator>
  <dc:description/>
  <dc:language>en-US</dc:language>
  <cp:lastModifiedBy>training123</cp:lastModifiedBy>
  <dcterms:modified xsi:type="dcterms:W3CDTF">2009-05-07T18:29:41Z</dcterms:modified>
  <cp:revision>17</cp:revision>
  <dc:subject/>
  <dc:title>Erosion</dc:title>
</cp:coreProperties>
</file>