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244-1784-4B06-8D50-15B57B93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C7F-BD7F-4A6A-8A27-8D1CB3A9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99E-B4D7-46B0-8754-18EAC9F3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CDC-7AE7-4A68-89A9-4EFB5AFD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38F2-60EB-481E-A0B6-C9A8590C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36CC-3DCE-4F8F-BD20-2804FA6A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5F31-D35D-4E9A-9FED-DCCDE827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054D-9197-4643-8475-374FD0D7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5A96-3497-438B-82FC-075FB12A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91E2-92C4-4163-B215-3D0F2100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AF46-F190-46E5-8D8F-9A94E187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7AC-95A7-473C-9CE3-FAB582B1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24D6-1A64-4568-806A-FBDA4399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1836-2E0F-42DB-95C0-01E07153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B8C5-FACE-484C-BFF4-B482E4A2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ABDE-F889-4304-A1EF-349F9084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D568-7617-435C-9943-7B41AF6E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FF2-3D88-4FBC-A14F-886EF52A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920-3513-40CC-9D2D-630BF3C9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A96-5469-4D38-AD4B-AB3FD5B3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008-08B0-45BA-9E36-3407653D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68A-9F3E-4BD4-8E63-5199DB4D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482-9AC1-4503-A2BB-D81C2C7A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293-F5F3-42BE-B9FB-BB82BD53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D2B4-2F61-4C3C-9071-7EE5C4682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3BB8-D66A-4B44-BA0F-91E728504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afari460/?a=49146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eacher.scholastic.com/dirtrep/erosion/invest.htm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ros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ing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Curlz MT"/>
              </a:rPr>
              <a:t>Standard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02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nguage Arts: GLE 0401.1.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knowledge of strategies and resources to determine the definition, pronunciation, and usage of words and phra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02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cience: GLE 0407.7.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how the Earth’s geological features change as a result of erosion (weathering and transportation) and depo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02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th: GLE 0406.1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ly and adapt a variety of appropriate strategies to problem solving, including estimation, and reasonableness of the solu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axonomy of The Shaping of the Land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e letters of the alphabet down the margin of your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about a word for each letter that reminds you of how the land around you has been sha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i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your taxonomy. Are these words included? Share your list and thoughts with a partn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41018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o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image to view 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286000"/>
            <a:ext cx="32767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stigate the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picture to investigate the fac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895480"/>
            <a:ext cx="4191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moving rivers can carve deep valleys. Investigate a river system. Write about a trip down the river. Think about how you overcome the problems you are faced with. Make sure you use your vocabulary words in your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562720" y="4419720"/>
            <a:ext cx="2082600" cy="2089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144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51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n water and wind wear down the earth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your group, develop a short program to show how the earth changes. You may express your knowledge in a play, skit, poem ,song or drawing. We can’t wait to view your cre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27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take your journey down the river, you are faced with a draw bridge. The bridge passage is 15 ft. wide and the overhead space is 20 ft. What is the area of the ope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62520" y="3878280"/>
            <a:ext cx="423216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24:56Z</dcterms:created>
  <dc:creator>training123</dc:creator>
  <dc:description/>
  <dc:language>en-US</dc:language>
  <cp:lastModifiedBy>training123</cp:lastModifiedBy>
  <dcterms:modified xsi:type="dcterms:W3CDTF">2009-05-07T18:29:41Z</dcterms:modified>
  <cp:revision>17</cp:revision>
  <dc:subject/>
  <dc:title>Erosion</dc:title>
</cp:coreProperties>
</file>