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C7F6-DD40-4875-AE0A-3F47561A1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B886-2B50-48CF-8652-15353711F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65F64F-D614-4994-A7BC-B3482D60F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9A7B91-355C-498F-B01B-B963656B7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28C173-2E80-4DE8-A5D3-C9A93BE98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B48906-EA95-4824-9EB2-9D22B7FA5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7CCCDC-851A-4249-90B2-1AF374FF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62E3C3-C74F-4AF7-AFCB-5BDBA1185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07901C-BCC4-4CAE-A291-F15906021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D45386-E46D-4BA7-8074-825271129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F20BD6-9C1C-4A29-B6B5-49A2CF710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5FAC-FF1F-475A-9F3E-23CD3C478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ACB3-B19F-436A-9E37-7813C67FA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8EB6F7-DA05-42DB-A79C-16B348E31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1DF6D2-33D6-48A3-8B80-DBB2CE485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9F1C11-3B47-4C5E-9655-643ACC058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67958B-FD88-4763-B1CE-68D944DC7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D3B52A-C6D8-459D-8142-71199476D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A4E715-C80D-4A4D-9068-1EE4A309A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5F2AE0-6260-4698-A134-0B720C74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FF09-6F19-4824-9B3E-904D76731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83DBE4-FB29-4057-ACBE-EFF2579A8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6DFEFE-BA3C-494E-B457-3D4DC28E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92F0EE-B24C-4290-BB3C-E6A566DBA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92BE01-095D-4388-BB32-AEA9BE8F7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22FE77-7869-41EE-9A4E-29FD98A53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A8014-AA79-4C13-B619-6290F8C05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BAB9C-5205-4E11-B730-A1D08B43E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8E2B4-AEF7-41F3-A17F-75149C8D1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FE13C-0D59-47D4-9B2F-C7C3EA3ED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52FC5-A284-401E-A9C5-F1AED047E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8438-544A-4DE9-BA75-9B6682BF2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515DD-D3C1-4B04-9D14-E23B9FB34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00BFF-9EE0-4711-AD2D-248687E21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4E802-FEFE-400F-90D1-8A0ED1155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45353-7752-4C8F-B924-BA7B16A1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6C4C7-9FE2-43B3-9713-ADE2FDBDD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8C262-5461-47C0-9A3F-86B94F15D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BC372-8D64-4A80-B2BD-F193381F4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C4976-622C-4AEA-AFBE-07601FFF0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03B30-F2DF-482B-96D7-2CB63864A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F439D-CA73-4C47-97E8-04EB54010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B12B-19A8-44FE-90E0-A534D6BE7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68FFA-F133-4164-B201-8DAB54CB4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E032C-7B37-48BA-89CD-DD8D335B9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F06C2-B8B7-4AAF-8413-C6B6C18E7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4880C-8FE5-4D39-B56F-DE194115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43B97-8878-4933-8A27-FE8B9B8F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D0C62-364C-45B9-83B9-0AAE3006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C688E-F098-4509-A13F-493621DD4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210F0-7210-4D79-BE3A-99D45C898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DDCA3-F6AC-449D-8C60-4507B0A68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972B4-F482-4A5A-BD5A-E685C87F6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1DE9-4980-450F-A48E-AA9516BBC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7A0B0F-A3F8-41F0-8030-9E813E40A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37405-D197-4CE0-AB42-A6F256C80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EAE90B-7591-44C4-9880-8EDE2185B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81696-1FF0-468B-A1AB-13305D462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213E7-C248-45C5-8B10-8805D055A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13541-B3A9-49D7-901B-8C30EB952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58D11-9AE6-49A3-9ABC-BB9A25FD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97E0B-291D-4552-AD88-53FB88C96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48F225-8BF1-41B2-B68E-49FC81AF0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52EB9-37BD-4E61-9D8B-633D82D45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8865-56BF-47D8-8133-DC89BA865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8DEF6-BF03-4111-9726-D481BF7E9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53C3C6-294A-48DE-ACB5-DA8D193AB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373732-BF73-49BD-80DD-EEEAE762C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28A342-4855-4C82-8FA7-157878566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CEAEC2-7F67-4AE7-9B5A-D53464282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028076-BFA1-48E5-8C6C-40FC5F40D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4FF7E-EF37-4452-BEEF-0B1AB9E7D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96CC7F-659D-4976-AA97-481B16D7B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8BA077-FBBD-4693-B59B-241340106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129792-21BC-43F6-B6AC-11CB63DD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D03E-DC62-47A5-96A4-199B9351F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C60065-C67D-4A28-90C4-353EDE985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85D019-D4C4-4730-A638-3D3ADCF25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EDC346-A48B-488F-BAC3-4DBFC33D2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137132-D234-4FCD-9F1B-6E04D5009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8802AE-13FB-413E-AC82-CB24B28EA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17E397-9C90-4210-9ADA-96CB7B1BF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FA7052-99FA-4F97-BBDF-EDC837738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12348E-0583-4E59-B596-D5C89CB1A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A1F329-5D9C-4DFF-9BE8-FD2A40C8D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74A722-7099-4CC5-8DAE-7A6AFFAD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F206-B539-4A40-8D48-33E29EBF1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8EBA05-D7FA-4842-BA82-6F28A9942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5002B9-041C-4254-BA01-1EF89ECD3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7A91B3-4F32-41CF-940B-F54E0EC27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38156D-25EE-4DFC-8BAD-E78A761ED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FCE4C6-0E4A-4EA6-8F53-B01E501BF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36CF38-DD76-4FFA-B45D-6E217A142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EAA4C2-BE95-4FF1-BEFE-2002E20B3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791C49-ECD8-46F6-A366-8F844A85A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363382-6416-4D8E-84E4-17B1070E1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0BA26B-7487-40AE-912C-97202EA6C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3151-0A25-4E08-9400-FD1E5C5B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1CC506-1885-4DDD-B5D8-4A85FF685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11FCE5-4422-4C1C-80B7-95138339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AD01D5-C4D6-4AEC-BD0E-80943C1F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6C87E7-BECF-46F3-8931-5EEC26F0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A61DC8-E581-4A8E-B9B0-1A31FBF2F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B96E00-83A9-426E-9C76-4DC075E03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12E69A-7E84-4C80-9B86-7212D0D1D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2E0E7E-0795-42DB-9664-71EAFDE11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684730-4C16-48DC-A7F3-92B195A3A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FB0BB0-4862-4850-A078-F96308BAA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7DDB1-1ACD-413A-85AE-3DA78676F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C4053-1B01-49F0-9AD1-058FC4192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278EE-0173-42A2-AF71-2AAD7A693F3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3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5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6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6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6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62785-FF0D-4064-B11C-E37327F4759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1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1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2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2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2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3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02C68-56A4-4719-AE38-687FF9E955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6760F-C5D0-487F-AAE5-05F720797D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5ED26-57C1-44A4-8E49-A9DBC1DD38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3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394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206FE-8E59-4FAF-837D-14680BDC3042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45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CC9B6-BAA4-49E7-AED4-AE198AB0EA7E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lpzoo.com/education/zebra/student/formfunction/c.html" TargetMode="External"/><Relationship Id="rId3" Type="http://schemas.openxmlformats.org/officeDocument/2006/relationships/hyperlink" Target="http://www.naturegrid.org.uk/woodland/woodexplore.html" TargetMode="External"/><Relationship Id="rId4" Type="http://schemas.openxmlformats.org/officeDocument/2006/relationships/hyperlink" Target="http://www.mbgnet.net/bioplants/adapt.html" TargetMode="External"/><Relationship Id="rId5" Type="http://schemas.openxmlformats.org/officeDocument/2006/relationships/hyperlink" Target="http://www.saskschools.ca/~gregory/winter/win1.html" TargetMode="External"/><Relationship Id="rId6" Type="http://schemas.openxmlformats.org/officeDocument/2006/relationships/image" Target="../media/image2.jpe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6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daptations of Plants and Animals 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n Different Regions of the Worl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73320" y="3809880"/>
            <a:ext cx="11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Gra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553080" y="5257800"/>
            <a:ext cx="838440" cy="368280"/>
          </a:xfrm>
          <a:prstGeom prst="rect">
            <a:avLst/>
          </a:prstGeom>
          <a:solidFill>
            <a:srgbClr val="463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ort for Master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ive each student vocabulary words to go with plants and animals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y will sort words under either animal or plant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7086600" y="6095880"/>
            <a:ext cx="1219320" cy="3812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in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app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n the world map put two stickers, one on the region your plant was located and one on where your animal was located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Graph where the plants came from and the animals came from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Follow up- research the region or country. (How the people live, clothing, jobs, food, etc.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352680" y="6248520"/>
            <a:ext cx="1676520" cy="6094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he E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6765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e3e3ff"/>
                </a:solidFill>
                <a:latin typeface="Arial"/>
              </a:rPr>
              <a:t>Science Standard- Analyze physical and behavioral adaptations that enable organisms to survive in their environment.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34600" y="2209320"/>
            <a:ext cx="7923240" cy="30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ading Standard-Write in a variety of modes and  genres (narration, description, personal expression, imaginative writing, response to literature, response to subject matter content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905120" y="4724280"/>
            <a:ext cx="723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219320" y="4648320"/>
            <a:ext cx="6705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384280" y="3192480"/>
            <a:ext cx="576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62120" y="3200400"/>
            <a:ext cx="807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 Standard-Collect, record, arrange, present, and interpret data using tables and various representa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623680" y="189000"/>
            <a:ext cx="3823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Verdana"/>
              </a:rPr>
              <a:t>Standard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91520" y="5715000"/>
            <a:ext cx="1066680" cy="6094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6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daptations of Plants and Animals 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n Different Regions of the Worl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973320" y="3809880"/>
            <a:ext cx="11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Gra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553080" y="5257800"/>
            <a:ext cx="838440" cy="368280"/>
          </a:xfrm>
          <a:prstGeom prst="rect">
            <a:avLst/>
          </a:prstGeom>
          <a:solidFill>
            <a:srgbClr val="463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ommunity Builde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xonomy Ac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!.Show 2 pictures: one of a wild animal, the other of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wild flower.  Each object will come from a different region in the U.S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Then do the ABC taxonomy activi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Divide the class up in 2 groups- one do the animal and the other do the plan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. Have each group write words about the picture on  their alphabe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. Let them share with another group with the same type of obj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6.Next, let the groups share with a group with the other obj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8001000" y="5867280"/>
            <a:ext cx="914400" cy="5335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nform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4" name=""/>
          <p:cNvSpPr/>
          <p:nvPr/>
        </p:nvSpPr>
        <p:spPr>
          <a:xfrm>
            <a:off x="4495680" y="2743200"/>
            <a:ext cx="2210040" cy="3682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ff"/>
                </a:solidFill>
                <a:uFillTx/>
                <a:latin typeface="Arial"/>
                <a:hlinkClick r:id="rId2"/>
              </a:rPr>
              <a:t>Animal adapt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657320" y="3657600"/>
            <a:ext cx="2055240" cy="368280"/>
          </a:xfrm>
          <a:prstGeom prst="rect">
            <a:avLst/>
          </a:prstGeom>
          <a:solidFill>
            <a:srgbClr val="009999"/>
          </a:solidFill>
          <a:ln w="936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ff"/>
                </a:solidFill>
                <a:uFillTx/>
                <a:latin typeface="Arial"/>
                <a:hlinkClick r:id="rId3"/>
              </a:rPr>
              <a:t>Woodland anima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151280" y="2743200"/>
            <a:ext cx="1942560" cy="368280"/>
          </a:xfrm>
          <a:prstGeom prst="rect">
            <a:avLst/>
          </a:prstGeom>
          <a:solidFill>
            <a:srgbClr val="009999"/>
          </a:solidFill>
          <a:ln w="936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ff"/>
                </a:solidFill>
                <a:uFillTx/>
                <a:latin typeface="Arial"/>
                <a:hlinkClick r:id="rId4"/>
              </a:rPr>
              <a:t>Plant adapt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3429000"/>
            <a:ext cx="2520720" cy="368280"/>
          </a:xfrm>
          <a:prstGeom prst="rect">
            <a:avLst/>
          </a:prstGeom>
          <a:solidFill>
            <a:srgbClr val="009999"/>
          </a:solidFill>
          <a:ln w="936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ff"/>
                </a:solidFill>
                <a:uFillTx/>
                <a:latin typeface="Arial"/>
                <a:hlinkClick r:id="rId5"/>
              </a:rPr>
              <a:t>Plants survive in win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6"/>
          <a:stretch/>
        </p:blipFill>
        <p:spPr>
          <a:xfrm>
            <a:off x="304920" y="4286160"/>
            <a:ext cx="3276360" cy="196236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7"/>
          <a:stretch/>
        </p:blipFill>
        <p:spPr>
          <a:xfrm>
            <a:off x="4343400" y="4343400"/>
            <a:ext cx="3429000" cy="182880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8001000" y="5791320"/>
            <a:ext cx="914400" cy="6094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1295280" y="380880"/>
            <a:ext cx="534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are and contra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04920" y="762120"/>
            <a:ext cx="807696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imals-Lik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ants-Lik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imals-differenc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ants-differen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343400" y="76212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04920" y="320040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536" name=""/>
          <p:cNvSpPr/>
          <p:nvPr/>
        </p:nvSpPr>
        <p:spPr>
          <a:xfrm>
            <a:off x="1910160" y="5943600"/>
            <a:ext cx="572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rections- Draw this chart on a piece of paper and lis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r likes and differenc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924680" y="6019920"/>
            <a:ext cx="914400" cy="53316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rections for wri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rite a titl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ou will write 2 paragraphs to compare and contras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ive a main idea for each plant and animal you have researche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st 5 details for each plant and animal. (use adjectives to describe your plant and animal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ive the area of its habita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region/country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ima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ng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rvival skill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o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0" name=""/>
          <p:cNvSpPr/>
          <p:nvPr/>
        </p:nvSpPr>
        <p:spPr>
          <a:xfrm>
            <a:off x="7772400" y="6019920"/>
            <a:ext cx="914400" cy="60948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th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et into a group of 5 student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aw a chart/table-chart all 5 students regions, climates, survival skills, habitats, and foo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"/>
          <p:cNvSpPr/>
          <p:nvPr/>
        </p:nvSpPr>
        <p:spPr>
          <a:xfrm>
            <a:off x="6705720" y="5867280"/>
            <a:ext cx="1066680" cy="60984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304920" y="762120"/>
          <a:ext cx="8550000" cy="5714640"/>
        </p:xfrm>
        <a:graphic>
          <a:graphicData uri="http://schemas.openxmlformats.org/drawingml/2006/table">
            <a:tbl>
              <a:tblPr/>
              <a:tblGrid>
                <a:gridCol w="1425240"/>
                <a:gridCol w="1423800"/>
                <a:gridCol w="1425600"/>
                <a:gridCol w="1424160"/>
                <a:gridCol w="1425600"/>
                <a:gridCol w="1425600"/>
              </a:tblGrid>
              <a:tr h="98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m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d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bit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vival skil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im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6" name=""/>
          <p:cNvSpPr/>
          <p:nvPr/>
        </p:nvSpPr>
        <p:spPr>
          <a:xfrm>
            <a:off x="7848720" y="6629400"/>
            <a:ext cx="76176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7T13:48:53Z</dcterms:created>
  <dc:creator>training123</dc:creator>
  <dc:description/>
  <dc:language>en-US</dc:language>
  <cp:lastModifiedBy>training123</cp:lastModifiedBy>
  <dcterms:modified xsi:type="dcterms:W3CDTF">2009-05-07T19:23:21Z</dcterms:modified>
  <cp:revision>49</cp:revision>
  <dc:subject/>
  <dc:title>Science Standard- Analyze physical and behavioral adaptations that enable organisms to survive in their environment.</dc:title>
</cp:coreProperties>
</file>