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362E-8EDF-432F-AE00-2A915E58A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37D0-C8FD-4E59-9E31-AA6617892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302FDC-67EB-4607-B1E6-8AB8220A9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6232AA-9F8B-4046-B4E5-253E406D9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865F29-6C76-4E5A-AFAB-92CB3859B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ED08B5-D3DB-4243-A548-319C5F3B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030A71-563D-45BA-B218-7A3A1BDC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3DEA4E-88D4-4F99-AEB1-1D7EE4AB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FD6279-5229-4AFE-8B25-B61A2C5DB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A982FB-B4E1-4801-BC54-8A29431AD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FEC16A-64EE-4D6B-B8DF-9444CA019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0C84-D6BC-4067-BD86-466E9DF90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3A82-FBC8-4FE2-B478-534EF9CA4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84AFC2-DDF4-4D5D-930B-A2AA24BD9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6F7F06-594C-4400-93DD-25DE95252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2B8350-F10F-4A0F-9859-7CC4877ED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0C45C2-DF09-43E1-A2A3-5C0820FBB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98D08C-5C95-4134-8147-40182763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CC2568-B140-4415-865C-C9FB1CFE2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B8B335-791D-4372-9048-7799A394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8E0F-8530-4FAC-827D-2F5E7E8FE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343AAB-5563-4AB2-B3A7-C6C9DDCE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D1C06B-3E7F-42DF-A7A8-EA35837B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A1DBF7-4D80-48D9-BCEC-071239AA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456E2A-5FF3-4B03-A6E7-8C0684EB1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B990AE-55D8-451A-9F43-5FCB0A989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1525F-0028-4E03-9E31-D042439CD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50EEF-F5D5-4CAE-92F7-1971567AF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8040A-D0F6-4C23-A3B1-7FFEC8F06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E893A-E1C6-4DE5-A485-B693E67C2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C769F-B4A1-4268-A64D-B60FE44D6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BF42-BCCC-49DD-983F-6F36C94EB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DF847-7801-4404-A7B0-BA6DE7BEE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165F0-9FA0-4A30-A889-A9416DF2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9C4AC-640F-4F46-9069-96EA8739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434A5-D5A3-4EDC-A326-969BB7E2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C26E9-D86E-4D93-B433-1B7B74F37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DEDF9-6032-4369-BE8C-24937CED6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156F5-B0FA-42E2-936B-58AC9A764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B1AB9-FE0D-4F83-9728-D54F74C57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A485F-2F48-4D18-91AE-5E7B522BF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B4C4F-4E4F-4A57-9002-A139B38FF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A08B-7E34-4A18-9285-264E78432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FC0ED-2B29-4FB9-9B71-446372535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B6A5F-72F2-44A7-BB72-D09CA7E86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055E7-EACD-4154-A86B-91EFD1767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DF916-1321-4F42-A8CA-F00CE9AE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09983-2111-45A9-89BE-EFA41F0A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27931-9FC0-4BF0-8427-E50C0DA7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5243D-EE5A-4A8E-AE41-BE46C9368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8E268-81C8-429E-9F56-4A9176FE9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11738-8567-4D41-8679-5162C4EDA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A7AD6-ABAB-4D8B-8291-E6A36385F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735C-7C44-4914-9EA9-7A3DBCDCF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8A455-3C6E-40AA-913D-3F310B95F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6FDD0-0F08-4E06-88FE-49A304334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0DBFE-BACC-4A1C-9659-A19E97C29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E3EA6-D9FB-496A-A6F4-C47D4313B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738E4-B8AD-4A9A-992E-306BB0374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62C76-E13E-41FD-8D4D-C76CB690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D4C37-32FA-4A99-8C41-A1C4168F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D1AA8-32E5-47BF-91C0-63AEC076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EE7BC-CE19-4166-A975-81B8EA16D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FB3DF-79F0-433A-9730-467BD1D3E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1EDD-2BD6-4648-8421-A490A021C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CB916-E2D6-49D8-9F67-1A0CE104F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25C78-5275-4E9D-90C0-56302AE83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A34BC-2BC4-4408-9718-982D34DF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E9313-06D8-45E4-AAE6-298144037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382F50-44EB-4F7B-867E-BD84C4D97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75953-26B1-4136-AF05-90D92A009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6F84C-A04A-4530-9948-279697576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A2F78-56C7-45E6-8328-DDDC7FAF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B8555-E479-4283-8A64-603B4FFF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1500A9-0187-402A-B6AF-013CE063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A2F4-1907-45B8-8E2F-E3CC5E91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FF154-6441-4738-AE9D-245CA0525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B0D4D4-F579-4255-88D9-22327F818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5BD1B-F2DB-4CA0-95CD-0DD5BDC42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3DFF91-613F-41E4-B4F7-791890AB6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5A4BAA-5A9A-41AA-9680-B64A5574E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195A2-602B-49DF-8557-C9EBDDBC1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76B1B-E2D7-439F-8C75-605754BFC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EB726-0542-4E5B-A054-AC0A4DED3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46314D-C34C-42B2-8FBB-A7CB073D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E1226-C83E-46B6-B554-CCDBA59A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CF20-FA1F-4111-848E-E5AF4691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04E56-6498-40E7-95DE-42286789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B0264-2450-4984-8861-07869F8D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37A01-8AE2-41E1-8798-70E7B86C3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FFC47-4273-428F-AB7E-06205C222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705A0-1B6B-4C94-BA0E-8B6AB3EC0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D37060-3E33-41EE-BDB0-27DA4895A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4B7C78-B203-4B59-8B45-0AB6747A9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5A1CFD-969E-4679-8098-83E85F9F9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F58497-BE73-4F9A-99D0-F8A9FA4D2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3ECEFE-C24B-4800-8301-C02FE1094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1177-260E-4050-8EE5-D1E9754C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2177FE-2F5F-43A3-9B08-C91F4772B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F9C44-2A36-4E39-A25C-86FB8916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05772A-7AD3-41BE-B41A-8171028B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C3092B-6339-466A-BC73-7B6132DF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ABA512-7B8D-4285-9312-CC89CE139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CD8CDF-9446-4050-AFA2-16AEA634E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0691B1-6424-4AC1-B875-05BBC86AB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828FBF-288F-402E-B512-F74FEF491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EA76C2-5651-450E-8DD0-3BC777ED0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148F92-47BD-4065-A1EC-259B1718C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C3B29-5CC0-44CC-A94C-2B3EDB1CA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40B33-9DB8-4F89-AE62-BF39A0E55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EAC76-5D7F-4920-937C-6BC934854B5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3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5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6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6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6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9D28F-BBA7-4D69-B074-E46841ABFF9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1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1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2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2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2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6D5DD-4D23-42A3-B23B-6CC6A028B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4C4AC-ADA5-4279-9317-B0AC183BE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157B-F71F-4E57-B0EE-84EADAB2E2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394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5113A-88AE-4824-A46D-C6D929AB782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45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ACFAA-C4CB-4CD9-BEAB-94B88416148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lpzoo.com/education/zebra/student/formfunction/c.html" TargetMode="External"/><Relationship Id="rId3" Type="http://schemas.openxmlformats.org/officeDocument/2006/relationships/hyperlink" Target="http://www.naturegrid.org.uk/woodland/woodexplore.html" TargetMode="External"/><Relationship Id="rId4" Type="http://schemas.openxmlformats.org/officeDocument/2006/relationships/hyperlink" Target="http://www.mbgnet.net/bioplants/adapt.html" TargetMode="External"/><Relationship Id="rId5" Type="http://schemas.openxmlformats.org/officeDocument/2006/relationships/hyperlink" Target="http://www.saskschools.ca/~gregory/winter/win1.html" TargetMode="External"/><Relationship Id="rId6" Type="http://schemas.openxmlformats.org/officeDocument/2006/relationships/image" Target="../media/image2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6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daptations of Plants and Animals 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n Different Regions of the Worl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73320" y="3809880"/>
            <a:ext cx="11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ra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553080" y="5257800"/>
            <a:ext cx="838440" cy="368280"/>
          </a:xfrm>
          <a:prstGeom prst="rect">
            <a:avLst/>
          </a:prstGeom>
          <a:solidFill>
            <a:srgbClr val="463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ort for Master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ive each student vocabulary words to go with plants and animals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y will sort words under either animal or plant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7086600" y="6095880"/>
            <a:ext cx="1219320" cy="3812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in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app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n the world map put two stickers, one on the region your plant was located and one on where your animal was located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Graph where the plants came from and the animals came from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Follow up- research the region or country. (How the people live, clothing, jobs, food, etc.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352680" y="6248520"/>
            <a:ext cx="1676520" cy="6094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he 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6765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e3e3ff"/>
                </a:solidFill>
                <a:latin typeface="Arial"/>
              </a:rPr>
              <a:t>Science Standard- Analyze physical and behavioral adaptations that enable organisms to survive in their environment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34600" y="2209320"/>
            <a:ext cx="792324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ading Standard-Write in a variety of modes and  genres (narration, description, personal expression, imaginative writing, response to literature, response to subject matter content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905120" y="4724280"/>
            <a:ext cx="723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219320" y="4648320"/>
            <a:ext cx="6705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384280" y="3192480"/>
            <a:ext cx="576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62120" y="3200400"/>
            <a:ext cx="807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 Standard-Collect, record, arrange, present, and interpret data using tables and various representa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623680" y="189000"/>
            <a:ext cx="382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Verdana"/>
              </a:rPr>
              <a:t>Standard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91520" y="5715000"/>
            <a:ext cx="1066680" cy="6094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6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daptations of Plants and Animals 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n Different Regions of the Worl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973320" y="3809880"/>
            <a:ext cx="11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ra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553080" y="5257800"/>
            <a:ext cx="838440" cy="368280"/>
          </a:xfrm>
          <a:prstGeom prst="rect">
            <a:avLst/>
          </a:prstGeom>
          <a:solidFill>
            <a:srgbClr val="463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mmunity Build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xonomy Ac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!.Show 2 pictures: one of a wild animal, the other o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wild flower.  Each object will come from a different region in the U.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Then do the ABC taxonomy activ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Divide the class up in 2 groups- one do the animal and the other do the plan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. Have each group write words about the picture on  their alphabe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. Let them share with another group with the same type of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.Next, let the groups share with a group with the other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8001000" y="5867280"/>
            <a:ext cx="914400" cy="5335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form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4495680" y="2743200"/>
            <a:ext cx="2210040" cy="368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Arial"/>
                <a:hlinkClick r:id="rId2"/>
              </a:rPr>
              <a:t>Animal adapt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657320" y="3657600"/>
            <a:ext cx="2055240" cy="368280"/>
          </a:xfrm>
          <a:prstGeom prst="rect">
            <a:avLst/>
          </a:prstGeom>
          <a:solidFill>
            <a:srgbClr val="009999"/>
          </a:solidFill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Arial"/>
                <a:hlinkClick r:id="rId3"/>
              </a:rPr>
              <a:t>Woodland anima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151280" y="2743200"/>
            <a:ext cx="1942560" cy="368280"/>
          </a:xfrm>
          <a:prstGeom prst="rect">
            <a:avLst/>
          </a:prstGeom>
          <a:solidFill>
            <a:srgbClr val="009999"/>
          </a:solidFill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Arial"/>
                <a:hlinkClick r:id="rId4"/>
              </a:rPr>
              <a:t>Plant adapt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3429000"/>
            <a:ext cx="2520720" cy="368280"/>
          </a:xfrm>
          <a:prstGeom prst="rect">
            <a:avLst/>
          </a:prstGeom>
          <a:solidFill>
            <a:srgbClr val="009999"/>
          </a:solidFill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Arial"/>
                <a:hlinkClick r:id="rId5"/>
              </a:rPr>
              <a:t>Plants survive in win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6"/>
          <a:stretch/>
        </p:blipFill>
        <p:spPr>
          <a:xfrm>
            <a:off x="304920" y="4286160"/>
            <a:ext cx="3276360" cy="196236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7"/>
          <a:stretch/>
        </p:blipFill>
        <p:spPr>
          <a:xfrm>
            <a:off x="4343400" y="4343400"/>
            <a:ext cx="3429000" cy="182880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8001000" y="5791320"/>
            <a:ext cx="914400" cy="6094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1295280" y="380880"/>
            <a:ext cx="534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and contra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04920" y="762120"/>
            <a:ext cx="807696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imals-Lik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nts-Lik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imals-differenc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nts-differen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343400" y="76212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04920" y="32004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536" name=""/>
          <p:cNvSpPr/>
          <p:nvPr/>
        </p:nvSpPr>
        <p:spPr>
          <a:xfrm>
            <a:off x="1910160" y="5943600"/>
            <a:ext cx="572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rections- Draw this chart on a piece of paper and lis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likes and differenc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924680" y="6019920"/>
            <a:ext cx="914400" cy="5331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rections for wri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rite a titl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ou will write 2 paragraphs to compare and contras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ive a main idea for each plant and animal you have researche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st 5 details for each plant and animal. (use adjectives to describe your plant and animal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ive the area of its habita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region/country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ima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ng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rvival skill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o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"/>
          <p:cNvSpPr/>
          <p:nvPr/>
        </p:nvSpPr>
        <p:spPr>
          <a:xfrm>
            <a:off x="7772400" y="6019920"/>
            <a:ext cx="914400" cy="6094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th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t into a group of 5 student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aw a chart/table-chart all 5 students regions, climates, survival skills, habitats, and foo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"/>
          <p:cNvSpPr/>
          <p:nvPr/>
        </p:nvSpPr>
        <p:spPr>
          <a:xfrm>
            <a:off x="6705720" y="5867280"/>
            <a:ext cx="1066680" cy="60984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304920" y="762120"/>
          <a:ext cx="8550000" cy="5714640"/>
        </p:xfrm>
        <a:graphic>
          <a:graphicData uri="http://schemas.openxmlformats.org/drawingml/2006/table">
            <a:tbl>
              <a:tblPr/>
              <a:tblGrid>
                <a:gridCol w="1425240"/>
                <a:gridCol w="1423800"/>
                <a:gridCol w="1425600"/>
                <a:gridCol w="1424160"/>
                <a:gridCol w="1425600"/>
                <a:gridCol w="1425600"/>
              </a:tblGrid>
              <a:tr h="98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m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d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bit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vival skil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im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6" name=""/>
          <p:cNvSpPr/>
          <p:nvPr/>
        </p:nvSpPr>
        <p:spPr>
          <a:xfrm>
            <a:off x="7848720" y="6629400"/>
            <a:ext cx="76176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13:48:53Z</dcterms:created>
  <dc:creator>training123</dc:creator>
  <dc:description/>
  <dc:language>en-US</dc:language>
  <cp:lastModifiedBy>training123</cp:lastModifiedBy>
  <dcterms:modified xsi:type="dcterms:W3CDTF">2009-05-07T19:23:21Z</dcterms:modified>
  <cp:revision>49</cp:revision>
  <dc:subject/>
  <dc:title>Science Standard- Analyze physical and behavioral adaptations that enable organisms to survive in their environment.</dc:title>
</cp:coreProperties>
</file>