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424B-4D53-4253-A58B-9C99730C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B5CA-C260-484C-898C-6F693807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4DB04-EA3D-4E24-8D66-BA96F909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0564D-9A52-4C3C-B1B3-891B1013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2D773-E5E0-4B3B-8E86-25BFC02E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7FD9F-EE90-414D-87BB-B7150D19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627A6-3146-43C8-B005-66EADCEE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A406F-B9E2-4242-A4BA-9D2ED94D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2E6DC-21CB-494C-A299-DBD52893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51A9C-99CA-4C0F-BDB9-39CA37FC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ACE92-DDBD-44E8-A7FF-F9535865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10C9-D699-468A-9C45-DDFEC789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83A-BDA5-40B8-AA04-EC7F4F4C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3D51B-A292-45EB-A203-27A16FA3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F3B69-B2C7-4AEC-8677-10F5360C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A06D8-125B-4AEA-884A-C9BD7148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79333-91E9-4BA2-AF46-630950B0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76ACA-12F3-442E-8376-DA0FDC04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BC1E2-9D86-43CD-8568-19BFAA04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87917-93EC-44AE-BA20-6B90493D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8A7-56E1-414B-BA33-0BFED303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6A325-E66E-4479-BB45-404051DA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7EAF6-FBDC-4ABE-BB40-935A41DC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B1EA5-C010-4BFB-B9B7-1D6CE002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D81FC-43C0-4A2F-B616-D3BA23AF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CEB33-07A9-4FBC-B8FD-E9DF6C46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3F4EE-36C2-4463-909F-AE3EAEA1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CFAD5-14A9-4DE1-A8D9-609E1B08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C4BBA-4E92-4844-B712-8C4D0ADC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66303-4929-47BF-A8AE-3D37A479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19515-E6B0-41FC-8030-2449CEF5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B9A-AD4A-4B9E-8416-C79BC9F9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1DD03-C2D9-4F6B-9476-4FBC0A3F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90EA6-9B20-424A-976E-6FFA2C5E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D0269-83F3-46A5-8B14-C9D6ED91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173E9-1D38-4706-AF1C-6E83F20E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F160E-D9A4-4851-938A-64953D36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328AA-EB71-42E5-B827-3698B562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A5EDB-30D1-4820-8007-321063EE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84CAC-7A93-483C-AC88-375AA449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FF17E-0B6C-4EE5-BBAC-7E8EE19D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6415D-BEDB-42E9-B590-3F861811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E5DE-8771-42EB-A061-D3C0ACDD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8814B-F756-437D-A04B-425991BE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35F83-0ED6-493D-824B-1A4A9107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61F1C-6480-48E7-9D7B-B15F6070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6C5F2-7ED7-460C-890F-93EEECB4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5D14E-0103-49C6-A001-D2661739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B52AD-2DB5-4C77-80E9-BA86959E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EB883-86D7-484F-BC3C-6EDA5FB0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235E8-9147-4517-BB35-4E0ABC01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3FE13-7DE8-4C1C-A0F6-1FD7C991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E05E1-CE0D-403D-9062-F9F9D1B7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640-5536-4690-9EFE-D42049A7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5C364-48AC-408D-A6A9-66D224F6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E91B0-23C1-4845-AAD4-9FF52558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98779-0AEF-46C4-B8FF-F61CF200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19050-8712-4646-AED4-6955AD21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15CE1-AB3D-449F-8513-EE657BB4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B21C2-B5F8-49FD-8DE0-D9CB6B17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2FA0B-4474-45D4-AF28-39FC4CC5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38147-AB33-410B-8243-BD3984ED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DEA6F-8D1E-4479-820D-D385DFC6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6AAEB-ABC4-4B36-A99C-2C57357E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5BD-267A-4D5E-8CF6-1CE51214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1BEFC-4095-4059-AFD3-9974A5E3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F333C-B3FF-4AB7-B9CA-CE38A186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A4460-273C-464D-B41D-D7FE7CA2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1D975-D7C3-4E07-9925-6BDF7FF7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F1AB1-5721-47DC-85DA-FCEECE5D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B6034-114E-4E85-B3A1-833622FE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5A802-C95F-4B5F-94E0-C315AEAC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C9775-733C-4C0B-8E92-B0A48FB4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4380F-80EE-46B8-B6A5-F88EFE6F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D9BAF-D6A2-43AD-AF1C-8D4BAC18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8ED0-D73B-4BC9-AEE7-4CBB0E87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B1589-4CE2-444B-BD0C-3437522A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01058-432D-488D-9108-6AA6FAA2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6C43C-DC9D-4C99-87E5-9790E2BD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2B707-75CA-4198-AA70-54221C09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7CAED-5646-4584-A18F-E77C57CE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FC372-86D8-455E-AAD4-3F699F8E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EC671-F970-45DC-8419-5F98FE68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57B5C-EF5A-407D-9D2C-53622A4A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58D7F-0540-437A-A865-5E22B248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C5AC2-4588-41F5-8A18-81BE9843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AD3-79D6-4151-8360-8FB46753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85291-AF18-448D-A025-F52A3529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F1E9F-0735-46A1-B89B-02882B68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7A9FB-EB16-434E-8111-F98AF125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BF91A-DD7E-4CEC-B6B4-E8EB33E3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F7477-1EEA-4D4D-AABA-F1EAA1CD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A866F-5FF8-4868-8C09-82BDF0E0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22F3D-EBA8-4FCE-A198-A7A1D4C0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E209C-5B8B-4C9E-B5FD-0A9EB295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1DD43-90F4-463A-AAD0-41B59B51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E591B-34CA-4ABF-AB42-F72F1F27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0421-BF7D-4032-A2EE-933DA6E7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78E6F-7D50-45E5-94CA-78D3DAD9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7D59E-6BA8-4814-B951-19399628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5384E-CDBA-4888-ACA6-2A740708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78578-3007-4AA2-ADBC-D21E327B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37188-F52D-43E0-ABE6-C3C025AB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82532-039B-4826-AEEA-BE5239AB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6351B-56EA-421E-B400-45B46D92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80BBE-63A9-4376-AC2B-6962E403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6949C-D589-4006-8DA2-7F1413ED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50AF0-F78E-4F23-B878-C5E00F41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7702-9F7D-4B28-8A9C-CEB4E679A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714A-8D07-491D-AB6D-469C875EF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B3A0-28D4-4E27-8002-5E14CC5ED88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1179-F828-47B7-AC37-92403F01CB9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2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2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1C7E-32B1-45EB-B93F-6625C0A9F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BD12-8208-4B0C-85A5-D9C2FFF29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652D-75F8-465A-AA0B-A430AE3A5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9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CAD0-5C50-4530-91F2-22CC99A496C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5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3878-CFB1-4634-B7CF-24A5180018D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pzoo.com/education/zebra/student/formfunction/c.html" TargetMode="External"/><Relationship Id="rId3" Type="http://schemas.openxmlformats.org/officeDocument/2006/relationships/hyperlink" Target="http://www.naturegrid.org.uk/woodland/woodexplore.html" TargetMode="External"/><Relationship Id="rId4" Type="http://schemas.openxmlformats.org/officeDocument/2006/relationships/hyperlink" Target="http://www.mbgnet.net/bioplants/adapt.html" TargetMode="External"/><Relationship Id="rId5" Type="http://schemas.openxmlformats.org/officeDocument/2006/relationships/hyperlink" Target="http://www.saskschools.ca/~gregory/winter/win1.html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daptations of Plants and Animals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 Different Regions of the Worl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73320" y="3809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5257800"/>
            <a:ext cx="838440" cy="368280"/>
          </a:xfrm>
          <a:prstGeom prst="rect">
            <a:avLst/>
          </a:pr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rt for Maste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ive each student vocabulary words to go with plants and animal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will sort words under either animal or plan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7086600" y="6095880"/>
            <a:ext cx="1219320" cy="3812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pp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n the world map put two stickers, one on the region your plant was located and one on where your animal was locat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aph where the plants came from and the animals came from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ollow up- research the region or country. (How the people live, clothing, jobs, food, etc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352680" y="6248520"/>
            <a:ext cx="1676520" cy="609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Science Standard- Analyze physical and behavioral adaptations that enable organisms to survive in their environment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4600" y="2209320"/>
            <a:ext cx="792324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ding Standard-Write in a variety of modes and  genres (narration, description, personal expression, imaginative writing, response to literature, response to subject matter content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905120" y="472428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4648320"/>
            <a:ext cx="6705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384280" y="31924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62120" y="32004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 Standard-Collect, record, arrange, present, and interpret data using tables and various represent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623680" y="189000"/>
            <a:ext cx="382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Standar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91520" y="5715000"/>
            <a:ext cx="1066680" cy="609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daptations of Plants and Animals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 Different Regions of the Worl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973320" y="3809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553080" y="5257800"/>
            <a:ext cx="838440" cy="368280"/>
          </a:xfrm>
          <a:prstGeom prst="rect">
            <a:avLst/>
          </a:pr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ty Buil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xonom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.Show 2 pictures: one of a wild animal, the other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wild flower.  Each object will come from a different region in the U.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Then do the ABC taxonomy acti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Divide the class up in 2 groups- one do the animal and the other do the pla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Have each group write words about the picture on  their alphab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Let them share with another group with the same type of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Next, let the groups share with a group with the other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001000" y="5867280"/>
            <a:ext cx="914400" cy="5335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form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4495680" y="2743200"/>
            <a:ext cx="221004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2"/>
              </a:rPr>
              <a:t>Animal adap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657320" y="3657600"/>
            <a:ext cx="205524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3"/>
              </a:rPr>
              <a:t>Woodland anim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151280" y="2743200"/>
            <a:ext cx="194256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4"/>
              </a:rPr>
              <a:t>Plant adap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3429000"/>
            <a:ext cx="252072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5"/>
              </a:rPr>
              <a:t>Plants survive in w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6"/>
          <a:stretch/>
        </p:blipFill>
        <p:spPr>
          <a:xfrm>
            <a:off x="304920" y="4286160"/>
            <a:ext cx="3276360" cy="19623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7"/>
          <a:stretch/>
        </p:blipFill>
        <p:spPr>
          <a:xfrm>
            <a:off x="4343400" y="4343400"/>
            <a:ext cx="3429000" cy="18288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001000" y="5791320"/>
            <a:ext cx="914400" cy="6094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295280" y="380880"/>
            <a:ext cx="53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and contr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04920" y="762120"/>
            <a:ext cx="807696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mals-Lik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ts-Lik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mals-differenc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ts-dif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43400" y="7621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04920" y="3200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6" name=""/>
          <p:cNvSpPr/>
          <p:nvPr/>
        </p:nvSpPr>
        <p:spPr>
          <a:xfrm>
            <a:off x="1910160" y="5943600"/>
            <a:ext cx="57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ions- Draw this chart on a piece of paper and li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likes and differen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924680" y="6019920"/>
            <a:ext cx="914400" cy="533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rections for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ite a tit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will write 2 paragraphs to compare and contra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 a main idea for each plant and animal you have research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t 5 details for each plant and animal. (use adjectives to describe your plant and animal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 the area of its habit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region/countr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n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rvival skil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7772400" y="6019920"/>
            <a:ext cx="91440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h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into a group of 5 stude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chart/table-chart all 5 students regions, climates, survival skills, habitats, and f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6705720" y="5867280"/>
            <a:ext cx="1066680" cy="6098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304920" y="762120"/>
          <a:ext cx="8550000" cy="5714640"/>
        </p:xfrm>
        <a:graphic>
          <a:graphicData uri="http://schemas.openxmlformats.org/drawingml/2006/table">
            <a:tbl>
              <a:tblPr/>
              <a:tblGrid>
                <a:gridCol w="1425240"/>
                <a:gridCol w="1423800"/>
                <a:gridCol w="1425600"/>
                <a:gridCol w="1424160"/>
                <a:gridCol w="1425600"/>
                <a:gridCol w="1425600"/>
              </a:tblGrid>
              <a:tr h="9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t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ival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"/>
          <p:cNvSpPr/>
          <p:nvPr/>
        </p:nvSpPr>
        <p:spPr>
          <a:xfrm>
            <a:off x="7848720" y="6629400"/>
            <a:ext cx="7617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48:53Z</dcterms:created>
  <dc:creator>training123</dc:creator>
  <dc:description/>
  <dc:language>en-US</dc:language>
  <cp:lastModifiedBy>training123</cp:lastModifiedBy>
  <dcterms:modified xsi:type="dcterms:W3CDTF">2009-05-07T19:23:21Z</dcterms:modified>
  <cp:revision>49</cp:revision>
  <dc:subject/>
  <dc:title>Science Standard- Analyze physical and behavioral adaptations that enable organisms to survive in their environment.</dc:title>
</cp:coreProperties>
</file>