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D89-038E-4120-83D9-3DDA565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444-4F21-422A-A598-6BBEE89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7D52C-0883-400F-8280-A4F4978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7B22D-BA01-4FBC-BFCA-1396CA5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0DEC5-C431-4A29-9741-2EA2A0D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10ED5-F562-4A07-B64A-8F63027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B00D-D3B9-42A7-A948-F56F854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B594E-939D-4ED6-BDA9-00FF781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5FE4-B820-4164-9C3A-D4834D4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17A8E-8E67-4817-AA6B-4D9FD7E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5E91C-8FFD-4D8A-93C3-58FAC834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DA1-3295-45B6-8818-4070A833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2E8-9951-4F01-A6AF-9577D30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FE39-9BA7-48AA-AF21-BCD6ABC8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E1DFB-B1C2-4F7C-8DBE-C6F7B024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C71CD-4194-4027-8EFE-4B320EC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EA2D9-A0E1-4D39-8807-4602A099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F3DF9-38B8-4149-8701-DE82098C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F8BEA-4257-4435-9C9A-217A0C47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03C80-230E-4938-A8E6-9B3AC09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EFC-69C0-4CA4-BD64-5C416E2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600D8-5831-42BE-997A-2CE7235F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4E9B7-4BC3-4CC4-A3E1-108198A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1B4F9-30B1-49BC-86D9-90C34C3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72F59-657A-4076-A743-AF2D6170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3C818-DEA2-4419-BF77-B8F21619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DBA1-E9D5-4F25-BC10-3C4AD5AD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9D07-E838-400D-ACCC-B335A749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1169-B65A-4582-B93E-BBA915DB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5AEF-BB2E-4C69-AE1D-62615341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36BD-D0CF-4F71-A308-92DD02C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ABA-9403-4FAD-99CE-14EF4E5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6FEA-4A19-4718-94A8-B8F3FEFF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2D72-B616-4D05-80DA-56E70CB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F167-6154-442D-BF96-340C3DCA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94F7-19F4-4BB1-95D8-0D63928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5A26-7248-4900-8B35-5CCB7D9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E637-D4FC-489E-BFBD-9A418CD3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5A49-5E7A-4A35-AC3A-806B0B51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8776-E4F7-4EA3-AE26-DC8CB595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9C8A8-0A53-4DF3-A517-48B3B81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D480-AD23-412A-92DD-8E50AB8D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9E5-247A-4400-A9B2-792DAF49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B995-8EC6-4144-9F4F-40235833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95CD-A72A-457C-9B68-DD4221E8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AFDD-EA5F-4376-9B34-8D8B705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AD19-10D0-43A3-9A42-F2BEEA51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8288-0EDA-4144-A441-0EF312D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E2FF7-FB47-4675-B563-F5B354B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F197-157B-452D-976B-D4BF0C62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ABEB-9276-4C02-910E-7EF0BA63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03759-0DC3-4822-B421-0FCB9EA8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AE92-C14D-4C70-BBCA-1B0CFAC6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7A8-8C4E-429A-BD34-813C93E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04D2-E0B4-42E7-871B-6A9046F9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F640-BBFB-4A11-8F00-AA2DAB1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0A977-81F2-4469-AEBB-CF10349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4918-66E4-44E2-9151-A7F4236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69AA-954A-4A1E-8B54-CF090F2D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2153-DE86-4F87-86ED-338037C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82CE-8744-437A-8222-0F6C380B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67E9-0A54-4FA5-8CF2-EE8BFCB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C1C2-6FCA-499C-9993-5F6D4296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320E-4B99-407D-B788-65306F52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755-67CD-4B49-BF9A-0E60B76C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7928-06E4-4EC7-9CDA-790336AA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7719-EA3E-4FBA-8BF2-1FCEAAD0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BDD0-0713-4191-9832-C009A56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5599-4F6D-4AEA-8E31-67EE2BC1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D8EF-259D-4C64-A180-5EF9303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BB9E-68A5-4395-AA73-057D08E7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D428-71E0-483A-B804-FC946CE9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76DD-0D8A-40A7-AD56-BD93BA8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35326-9D3E-428C-A74A-6F83904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D0A27-1BDE-49A7-BB29-34DC49B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CFD-0123-4940-9707-EBA1973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85861-DB4F-4857-8F63-07C690FE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94C1-0167-4995-A8B8-E1E2CBC9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C94D-D20D-4D47-8DD3-67335366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AF5C-35B5-41DC-97F6-8201B87D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EC41-C7AB-4918-8AC9-6754D7BC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9F675-A58E-48E3-9B6B-272366D5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E7673-82E6-48E9-B117-E041AC18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6775-2214-4A5F-B41A-84950B17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9CFA-1C6A-4277-80F1-C7F8652F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66E29-AA61-470F-925C-970BADA0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46F-B015-4682-852C-087135F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DB46-421B-4F59-B415-E7611D9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E5D4-2B35-49AB-9EE8-E33ABD5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80AE-660B-47F9-8C46-7319E77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14392-895F-4589-B913-03B72C8B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ED753-788A-43FF-9452-C2CD0350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0A71-ABFF-4547-96D9-05C7D68A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16F7-090F-4C66-8FF9-A8417A12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CDD5-E03C-482D-B4AB-1632CD5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81C2-1488-46EA-9A86-AE9855B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D2DCC-BC51-454A-B923-3722683C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C0A-3826-46DE-AB4E-62C9491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BF92C-5FF7-4796-8AB0-67D7C61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6C59-83BA-468A-AD14-6CE9585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E568A-1E03-48E1-B233-167B5481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EA9A-7B02-4B4D-B054-0809EA2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71341-3702-4023-B366-FCB1180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2FCC-AF2E-4618-A70A-14FF02F4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673E-AFC1-4F35-8857-18C64343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26B89-FC7F-4E01-8836-7E957E58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756D-3C49-4AFF-B5C2-A9AEA031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52BE9-294E-4F54-9217-68ED990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83D0-9C46-4830-B755-BBA1054E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6961-0842-4943-B97B-F65BC57C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42D-18A8-43EC-983B-C1E2FFD381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A5E-B989-4DCF-8C8F-589CE39FD9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5F7F-3B12-4EF3-B05E-C8BA2434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D1B-B287-482B-A3B6-F2DC871D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C1F-3E0A-442F-AAE5-BD57DAB5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4D2D-B987-4E10-B8C2-591375AA6E4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472-9884-4DC1-BAD3-79E732D341B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pzoo.com/education/zebra/student/formfunction/c.html" TargetMode="External"/><Relationship Id="rId3" Type="http://schemas.openxmlformats.org/officeDocument/2006/relationships/hyperlink" Target="http://www.naturegrid.org.uk/woodland/woodexplore.html" TargetMode="External"/><Relationship Id="rId4" Type="http://schemas.openxmlformats.org/officeDocument/2006/relationships/hyperlink" Target="http://www.mbgnet.net/bioplants/adapt.html" TargetMode="External"/><Relationship Id="rId5" Type="http://schemas.openxmlformats.org/officeDocument/2006/relationships/hyperlink" Target="http://www.saskschools.ca/~gregory/winter/win1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 for Maste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each student vocabulary words to go with plants and animal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will sort words under either animal or pla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6095880"/>
            <a:ext cx="121932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the world map put two stickers, one on the region your plant was located and one on where your animal was loc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where the plants came from and the animals came fro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 up- research the region or country. (How the people live, clothing, jobs, food,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6248520"/>
            <a:ext cx="16765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Science Standard- Analyze physical and behavioral adaptations that enable organisms to survive in their environment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4600" y="2209320"/>
            <a:ext cx="79232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ing Standard-Write in a variety of modes and  genres (narration, description, personal expression, imaginative writing, response to literature, response to subject matter conte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724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648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84280" y="31924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32004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 Standard-Collect, record, arrange, present, and interpret data using tables and various re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23680" y="18900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Standar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1520" y="5715000"/>
            <a:ext cx="106668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aptations of Plants and Animal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Different Regions of the Worl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73320" y="3809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5257800"/>
            <a:ext cx="838440" cy="368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onom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.Show 2 pictures: one of a wild animal, the oth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ld flower.  Each object will come from a different region in the U.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Then do the ABC taxonomy 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vide the class up in 2 groups- one do the animal and the other do the pl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ave each group write words about the picture on  their alphab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Let them share with another group with the same type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Next, let the groups share with a group with the othe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01000" y="5867280"/>
            <a:ext cx="914400" cy="533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2743200"/>
            <a:ext cx="22100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Animal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7320" y="3657600"/>
            <a:ext cx="20552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Woodl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51280" y="2743200"/>
            <a:ext cx="194256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Plant adap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3429000"/>
            <a:ext cx="252072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Plants survive i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04920" y="4286160"/>
            <a:ext cx="3276360" cy="196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4343400" y="434340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001000" y="5791320"/>
            <a:ext cx="914400" cy="609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3808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762120"/>
            <a:ext cx="8076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Lik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Lik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-differ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s-dif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6" name=""/>
          <p:cNvSpPr/>
          <p:nvPr/>
        </p:nvSpPr>
        <p:spPr>
          <a:xfrm>
            <a:off x="1910160" y="594360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ions- Draw this chart on a piece of paper and l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likes and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6019920"/>
            <a:ext cx="9144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 for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 tit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write 2 paragraphs to compare and contr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main idea for each plant and animal you have research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 5 details for each plant and animal. (use adjectives to describe your plant and animal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the area of its habit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gion/count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n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rvival ski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7772400" y="6019920"/>
            <a:ext cx="9144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a group of 5 stud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chart/table-chart all 5 students regions, climates, survival skills, habitats, an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5867280"/>
            <a:ext cx="1066680" cy="6098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04920" y="762120"/>
          <a:ext cx="8550000" cy="5714640"/>
        </p:xfrm>
        <a:graphic>
          <a:graphicData uri="http://schemas.openxmlformats.org/drawingml/2006/table">
            <a:tbl>
              <a:tblPr/>
              <a:tblGrid>
                <a:gridCol w="1425240"/>
                <a:gridCol w="1423800"/>
                <a:gridCol w="1425600"/>
                <a:gridCol w="1424160"/>
                <a:gridCol w="1425600"/>
                <a:gridCol w="142560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7848720" y="662940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48:53Z</dcterms:created>
  <dc:creator>training123</dc:creator>
  <dc:description/>
  <dc:language>en-US</dc:language>
  <cp:lastModifiedBy>training123</cp:lastModifiedBy>
  <dcterms:modified xsi:type="dcterms:W3CDTF">2009-05-07T19:23:21Z</dcterms:modified>
  <cp:revision>49</cp:revision>
  <dc:subject/>
  <dc:title>Science Standard- Analyze physical and behavioral adaptations that enable organisms to survive in their environment.</dc:title>
</cp:coreProperties>
</file>