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ct" ContentType="image/x-pict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5FFD-260B-49A5-BB06-1527ADF2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90A6-F8AA-4BD2-B4EB-DEF58810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BC93-DCC4-4CED-AB0D-85C6B56A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F522-42F1-4A06-BD66-CCA32C45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7A55-B6FC-4E85-B1B3-BD6D48EA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D26E-EE88-4566-AE78-4FB65C7E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CE02-5E5B-46DC-9B99-9A1B9CC9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1284-CE6D-42EC-A867-C983E3B3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4B02-FB27-4BA7-81F9-EF6C4A68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CF73-0E16-4A53-A080-F2B46494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8637-3147-48A7-88BD-F322AACE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9A4-17E2-48C6-92F2-0475CEE4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1559-2417-451B-9FAD-2098FAA6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1B81-EC05-46E5-B856-EFD1D1EE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56CF-CF7E-4758-A13C-F3850881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711C-60BA-433F-841D-8CD015F5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609D-FB3D-4DED-8E7B-E543CB54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0F9F0-1A2A-4E0E-8186-4A74B088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81913-C292-44C7-A248-2B996100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BCF65-7F3A-4060-9C53-99C7A23C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6635F-6620-4019-9F99-F5D3F7EE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D146D-58D0-4EA5-9192-25912CC9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A118-1885-4F3F-9680-845A3AA5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F468C-3336-4AF4-88A6-123D14CE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47893-6E8B-49B1-83EC-4C5B1A32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DBA2D-4410-4798-AE77-B3B61047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F6DE0-A543-4ED0-94CC-5F975837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65F6C-7BD1-40C5-81E3-C7C8E1E4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A2F4B-1A28-4F51-9A50-F02B0456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CAF47-6996-43A5-BB72-8BD182DF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9B6-0F6D-414F-B788-FCBF10A7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AF8-C1AE-4177-BF5A-2DCF6E65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2535-B22C-4A71-9CCD-B092F275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087-78C8-4DD2-B87F-AC266D08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1DF3-54C2-4C4D-AFFC-084618DC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A486-D226-49FE-B5FD-0EB4CD18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3177-5480-4E4D-811A-E93A7B37E9AC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560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6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/>
              <a:ahLst/>
              <a:rect l="l" t="t" r="r" b="b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5a5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0b9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854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BB58-2B9D-41E6-86C7-6CC2B395CD9D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28600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560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01480" y="2324160"/>
            <a:ext cx="8209080" cy="1193760"/>
            <a:chOff x="501480" y="2324160"/>
            <a:chExt cx="8209080" cy="1193760"/>
          </a:xfrm>
        </p:grpSpPr>
        <p:sp>
          <p:nvSpPr>
            <p:cNvPr id="52" name=""/>
            <p:cNvSpPr/>
            <p:nvPr/>
          </p:nvSpPr>
          <p:spPr>
            <a:xfrm>
              <a:off x="501480" y="232416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9440" y="3200400"/>
              <a:ext cx="7913520" cy="262080"/>
            </a:xfrm>
            <a:custGeom>
              <a:avLst/>
              <a:gdLst/>
              <a:ahLst/>
              <a:rect l="l" t="t" r="r" b="b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5a5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2362320"/>
              <a:ext cx="7848720" cy="23472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0b9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85800" y="2589840"/>
              <a:ext cx="7848720" cy="15228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854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258E-2CBA-4B14-AC9B-869EF3ACA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BC N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90360" y="38858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-Bold"/>
              </a:rPr>
              <a:t>Man bites snake in epic stru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767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-Bold"/>
              </a:rPr>
              <a:t>A Kenyan  man bit a python which wrapped him in its coils and dragged him up a tree during a fierce three-hour struggle, police have told the BB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5335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rpent seized farm worker Ben Nyaumbe in Kenya.  Nyaumbe bit the snake on the tip of the tail during the exhausting battle in the Kenyan vill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08640" y="2967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733560" cy="3454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442200" y="454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971800" y="4191120"/>
            <a:ext cx="1847880" cy="2133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495680" y="2286000"/>
            <a:ext cx="403884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3120" y="507960"/>
            <a:ext cx="83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r Nyaumbe used his shirt to smother the snake's head and prevent it from swallowing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83040" y="2233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30400" y="1727280"/>
            <a:ext cx="5081760" cy="3403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030400" y="1727280"/>
            <a:ext cx="5081760" cy="3403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90720" y="5181480"/>
            <a:ext cx="63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e tied the python with a rope and pulled them both down from the tree with a th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243828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think the python could have actually swallowed the m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8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981080"/>
            <a:ext cx="84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ealers to cleanse Zimbabwe of snakes By David Blair in Har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8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39800" y="525600"/>
            <a:ext cx="76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healers were called in yesterday to deal with snakes that are blacking out towns in Zimbabwe by coiling themselves around power transmi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02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8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709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lassic African blend of modernity and tradition, the state electricity company yesterday asked nyangas (traditional healers) to tack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08:21Z</dcterms:created>
  <dc:creator>Melissa Pardo</dc:creator>
  <dc:description/>
  <dc:language>en-US</dc:language>
  <cp:lastModifiedBy>Melissa Pardo</cp:lastModifiedBy>
  <dcterms:modified xsi:type="dcterms:W3CDTF">2009-05-07T16:09:16Z</dcterms:modified>
  <cp:revision>3</cp:revision>
  <dc:subject/>
  <dc:title>BBC News</dc:title>
</cp:coreProperties>
</file>