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69C-40FD-439F-9900-7BAA98A8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C9B-CF57-4686-9763-0C4280F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3F0-34FB-421E-B903-E3C7A7BE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A98-BACB-4B53-997D-F54088B9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07CE-CCFB-484D-AFAE-3A33575A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BC31-C670-4E7E-B894-38011DF9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FB68-17BA-479C-9FA7-30CDC922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9373-34C5-45AB-B793-9679FCC7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D3B4-7808-40D5-8EAC-33CFE4CB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EEEA-D2FA-4279-AEDF-31CA06ED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AE10-EC8C-4600-9E05-2715C84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8D6-D455-4A8E-89A4-57A98058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6F33-A73E-4248-8DBC-850561A7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FF17-9D37-4B76-8400-6A2C3AA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E35-F1A0-4D8B-96DB-058DFA91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8D16-4054-43E3-AABD-2F24187E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2D6E-B0AC-4DE0-BA47-799D65E2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16B5-CFEC-4C89-BBE5-0D8C5A16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D951-7D75-4E0C-A45D-FD015F1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EC75-6F37-48F7-A66A-DDF869CE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A36B2-C2BE-4D0B-A313-0EA5905D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FB20-B105-4E9C-B848-B781189A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FA6-B925-4F9F-A0BF-194908A3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5C9C-C5CC-4AA4-B50E-2604326D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F4A9-B561-44C2-8F20-0310A74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71C4-EF9A-44CB-8A03-5703FA6F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68E0-8AA6-479A-83D4-59B7B94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4689-AA4D-402E-9F5B-15781D57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49DE-0409-4798-84C4-AACC0904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B5CC-0C87-4850-81E4-E2677F09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4D2-57D6-4C25-9210-5AE6E20B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11A-C691-4C8B-BD13-91753C6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418-5814-4CC9-B4CA-FC77EE83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899-1385-45E1-9FF5-168CEBA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1D0-BABD-4589-8183-10097CF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4E4-D6D9-4DD6-B1F5-E2DD5879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5A4C-6A4D-40BC-9541-0DCB2EBD9C81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D57C-B8F5-4EE3-8DC5-1CAF91BDEE3C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2264-52C7-4F6B-8C3D-AE9349249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C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-Bold"/>
              </a:rPr>
              <a:t>Man bites snake in epic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76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-Bold"/>
              </a:rPr>
              <a:t>A Kenyan  man bit a python which wrapped him in its coils and dragged him up a tree during a fierce three-hour struggle, police have told the B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rpent seized farm worker Ben Nyaumbe in Kenya.  Nyaumbe bit the snake on the tip of the tail during the exhausting battle in the Kenyan vil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8640" y="296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733560" cy="345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42200" y="454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1847880" cy="2133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40388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3120" y="507960"/>
            <a:ext cx="83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r Nyaumbe used his shirt to smother the snake's head and prevent it from swallowing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223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518148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e tied the python with a rope and pulled them both down from the tree with a th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243828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python could have actually swallowed the 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98108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alers to cleanse Zimbabwe of snakes By David Blair in Har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39800" y="52560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healers were called in yesterday to deal with snakes that are blacking out towns in Zimbabwe by coiling themselves around power 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lassic African blend of modernity and tradition, the state electricity company yesterday asked nyangas (traditional healers) to tack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8:21Z</dcterms:created>
  <dc:creator>Melissa Pardo</dc:creator>
  <dc:description/>
  <dc:language>en-US</dc:language>
  <cp:lastModifiedBy>Melissa Pardo</cp:lastModifiedBy>
  <dcterms:modified xsi:type="dcterms:W3CDTF">2009-05-07T16:09:16Z</dcterms:modified>
  <cp:revision>3</cp:revision>
  <dc:subject/>
  <dc:title>BBC News</dc:title>
</cp:coreProperties>
</file>