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ct" ContentType="image/x-pict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07D-EC47-4882-817B-9D5B0B48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8E1-DF58-47D3-86CC-8E251560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F71-514A-448A-B89C-CA952017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166-57E4-4B34-825E-79A3D6C8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0528-83A9-410D-9644-FB5B3EE6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D1B2-0F00-4561-B275-C8460DFE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FF6D-4D23-4732-95DF-F31853AA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7443-93E5-4F12-98BD-01429DB7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D0CB-0EF5-4C10-BDB9-23F950DA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EC78-B50C-4630-B6F8-5B03CE2C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0B90-7468-4F6F-8E61-A742CD49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240-D4B1-47F7-A946-C3C7A576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A19B-1342-427E-A660-D5617DCC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4D3A-A67A-4C87-A54E-9D61F680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B1E6-B344-49B8-B01C-5649C90F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6FEF-EF5B-4D9F-BC1A-980FA1D4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3156-F543-47FD-8D18-A284D058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0268-59BD-432A-A704-80AFB49D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636F6-C771-49F0-8FDD-94964273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69C1-B434-480E-9EA9-1214BFDA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0F0C-6A4B-4283-9909-E434583A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E6C26-37F2-4F23-9C41-50B88D9B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019-779F-4543-8F48-09344CF2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3C65-28D7-4846-B028-8AA4B44A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7393-9822-4E79-8958-61AEED1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F1AD9-AFA9-49A4-88FF-0053DF6A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243A-5103-4488-ACCC-8E69B77F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0C3A-C09D-4793-957F-0999B25D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CD273-72E0-45C2-964D-F06A8C49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AE68-1ED5-4F5D-A7C2-10F51858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E4E-346C-4996-B6AA-80C5B669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38D-5143-484B-B45A-2A232483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4C6-C457-408B-BFEC-9D50F32B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980-3B34-413D-A448-677FAEF6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362-F18F-4D5F-9CC4-8EFB51B6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7D3-F246-4EF8-B659-6AFCD00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0674-71EE-4942-A99D-CD4E4CBC557A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64BE-8A1F-44FF-BF7B-B08A620EBE04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52" name="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4359-5EDC-4303-9C04-BC4D70649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BC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-Bold"/>
              </a:rPr>
              <a:t>Man bites snake in epic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767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-Bold"/>
              </a:rPr>
              <a:t>A Kenyan  man bit a python which wrapped him in its coils and dragged him up a tree during a fierce three-hour struggle, police have told the B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533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rpent seized farm worker Ben Nyaumbe in Kenya.  Nyaumbe bit the snake on the tip of the tail during the exhausting battle in the Kenyan vill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8640" y="296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733560" cy="345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42200" y="454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1847880" cy="2133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495680" y="2286000"/>
            <a:ext cx="40388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3120" y="507960"/>
            <a:ext cx="83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r Nyaumbe used his shirt to smother the snake's head and prevent it from swallowing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83040" y="2233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90720" y="5181480"/>
            <a:ext cx="63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e tied the python with a rope and pulled them both down from the tree with a th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243828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python could have actually swallowed the 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98108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alers to cleanse Zimbabwe of snakes By David Blair in Har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39800" y="52560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healers were called in yesterday to deal with snakes that are blacking out towns in Zimbabwe by coiling themselves around power transmi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70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lassic African blend of modernity and tradition, the state electricity company yesterday asked nyangas (traditional healers) to tack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8:21Z</dcterms:created>
  <dc:creator>Melissa Pardo</dc:creator>
  <dc:description/>
  <dc:language>en-US</dc:language>
  <cp:lastModifiedBy>Melissa Pardo</cp:lastModifiedBy>
  <dcterms:modified xsi:type="dcterms:W3CDTF">2009-05-07T16:09:16Z</dcterms:modified>
  <cp:revision>3</cp:revision>
  <dc:subject/>
  <dc:title>BBC News</dc:title>
</cp:coreProperties>
</file>