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49D-0CBF-4515-89B2-AED0C3FA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3C8-B74E-49E6-9C6A-BA239021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D9E-22E0-4812-9A4F-16E74FF7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FCC-2FE8-4192-ABBF-2F6B9E3B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C34B-EC8E-4A8D-85D9-9A9985BB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0543-FC3D-43E2-8F25-78554317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8FEF-2C10-49A5-B4AC-78DF37F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4B67-D601-4B12-BCBB-50D2FA89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FFCA-6419-4450-819E-67C39FFD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D9E9-9EB0-4805-A2FE-ADB465D7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B035-B571-4A56-9F2C-29E5B8E3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7A4-C5A2-4B03-8827-8F662AA6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8370-19F4-4441-B6DD-4AB86D94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FC6F-8D5B-4CF7-B8DF-5ABD539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20FC-E737-420D-BE71-8846913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2226-473E-4239-9508-A4499BFF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D32F-863A-461E-8ABB-DBB7E99C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AC3D-DDE9-4399-A94F-B3F7D0F1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DE64B-39F8-48BB-AEF8-2B45B3B9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6DB0-0BA6-4530-8151-C1F3564C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DEA5-911A-4FDA-BC13-5607FDD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2EBE-5DFE-455E-81C1-48E2D8EA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D52-99C7-4CED-B638-A6D24C29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2093-1250-4547-AFED-058AA081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AB41-5EAB-475D-9849-0066320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E2F0-C2A7-4584-A15E-81DDA3CE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3013-E001-4745-B4C0-A507E879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CC57-5E8F-495A-A2FC-53FA6A6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0BA75-D7E9-423D-89B8-6F4BC671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6690-163D-471E-BDC8-3FB407B6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D48-ADB7-44D2-A0ED-0860C368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8C0-53E9-461B-95F9-19F991A6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39E-54EF-4D0B-AC46-57C65A6B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608-7193-4886-AE6D-A16BFBD5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396-F9B3-4F18-BBD0-FBCACF2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F0E-A2B3-4C26-9178-85DD0DE4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CDEF-0ED7-45E3-B540-FF39FB8816F5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DB8E-7FB5-4BD4-916C-5F7F7E53774D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52" name="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310F-6A2C-4541-9E68-4BB92AC14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C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-Bold"/>
              </a:rPr>
              <a:t>Man bites snake in epic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76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-Bold"/>
              </a:rPr>
              <a:t>A Kenyan  man bit a python which wrapped him in its coils and dragged him up a tree during a fierce three-hour struggle, police have told the B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rpent seized farm worker Ben Nyaumbe in Kenya.  Nyaumbe bit the snake on the tip of the tail during the exhausting battle in the Kenyan vil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8640" y="296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733560" cy="345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42200" y="454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1847880" cy="2133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495680" y="2286000"/>
            <a:ext cx="40388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3120" y="507960"/>
            <a:ext cx="83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r Nyaumbe used his shirt to smother the snake's head and prevent it from swallowing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2233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0720" y="5181480"/>
            <a:ext cx="63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e tied the python with a rope and pulled them both down from the tree with a th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243828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python could have actually swallowed the 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98108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alers to cleanse Zimbabwe of snakes By David Blair in Har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39800" y="52560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healers were called in yesterday to deal with snakes that are blacking out towns in Zimbabwe by coiling themselves around power 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70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lassic African blend of modernity and tradition, the state electricity company yesterday asked nyangas (traditional healers) to tack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8:21Z</dcterms:created>
  <dc:creator>Melissa Pardo</dc:creator>
  <dc:description/>
  <dc:language>en-US</dc:language>
  <cp:lastModifiedBy>Melissa Pardo</cp:lastModifiedBy>
  <dcterms:modified xsi:type="dcterms:W3CDTF">2009-05-07T16:09:16Z</dcterms:modified>
  <cp:revision>3</cp:revision>
  <dc:subject/>
  <dc:title>BBC News</dc:title>
</cp:coreProperties>
</file>