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ct" ContentType="image/x-pict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192-9165-4FF7-9282-5FDD5BB7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543-880C-4FC9-8AAC-915E1C04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CD5-9B9C-4250-8365-FB9FDF76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0C5-7020-4311-A59D-14481B6F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91B0-AF07-4E21-B65A-E5AE476C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AE57-1925-4B73-9BED-30DA9F68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7938-55EF-40A9-B5AD-28B7F0F8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7C5F-2530-498C-A8B8-CE1A7777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600B-744A-46F0-9E92-F5885AA9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F80B-1291-4728-9813-A2E2D6B2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C80B-F7E5-4C22-95D3-B65BDDAE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35D-3337-4958-96A3-495D7B7D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8D9D-AED8-4B24-9B01-3C7973B5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865C-07C3-4A28-96B4-7197440F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2AE4-AE40-4786-A8D1-11EBE993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2F21-5893-4442-99D2-C2E7A24C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95B3-F05A-4967-90F6-A3D2C09D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EC1A-B7B4-4C54-8C99-5CF1CC94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A4A8-C951-49E8-81B2-293685ED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3CDD-3286-4BB3-8A62-6819EBBF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16744-CF76-4016-8755-36A9F201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CC9DA-725A-42D0-A489-BD7ECEA0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90B-BEA2-401D-B850-BFC11AA3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4870D-FB86-44A5-A2D2-A7F23856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B93C0-5255-42A9-8B7D-5419E572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B269-5B7C-498B-8827-A10BCF21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F11F8-1515-46DF-97AC-3DA7532C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316D-49C9-46F1-9D1A-0BAEDB15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BFA21-8D6D-49DC-A583-10F76833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D201-759D-49B3-89E3-BF67F761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461-59DC-4D56-966D-015EDCAA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352-711B-4803-B8CC-5D940952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E7A-E998-4CDD-ABA9-1A575C77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1A9-2E8A-4E44-BE71-EB083D72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A9D-D2FC-4DA1-893C-29CDF2D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B86-8165-4BA4-81BE-3F90C43E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DFDF-B994-44C9-992B-E05D40A6C870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6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8D61-EC4B-4DC7-BDB6-B88BFB1B806F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28600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01480" y="2324160"/>
            <a:ext cx="8209080" cy="1193760"/>
            <a:chOff x="501480" y="2324160"/>
            <a:chExt cx="8209080" cy="1193760"/>
          </a:xfrm>
        </p:grpSpPr>
        <p:sp>
          <p:nvSpPr>
            <p:cNvPr id="52" name=""/>
            <p:cNvSpPr/>
            <p:nvPr/>
          </p:nvSpPr>
          <p:spPr>
            <a:xfrm>
              <a:off x="501480" y="232416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9440" y="3200400"/>
              <a:ext cx="7913520" cy="26208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2362320"/>
              <a:ext cx="7848720" cy="23472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85800" y="2589840"/>
              <a:ext cx="7848720" cy="1522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C40C-7F41-4DDB-B093-6F7AF0B32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BC N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-Bold"/>
              </a:rPr>
              <a:t>Man bites snake in epic 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767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-Bold"/>
              </a:rPr>
              <a:t>A Kenyan  man bit a python which wrapped him in its coils and dragged him up a tree during a fierce three-hour struggle, police have told the BB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5335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rpent seized farm worker Ben Nyaumbe in Kenya.  Nyaumbe bit the snake on the tip of the tail during the exhausting battle in the Kenyan vill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8640" y="2967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733560" cy="345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42200" y="454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71800" y="4191120"/>
            <a:ext cx="1847880" cy="2133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495680" y="2286000"/>
            <a:ext cx="403884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3120" y="507960"/>
            <a:ext cx="83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r Nyaumbe used his shirt to smother the snake's head and prevent it from swallowing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83040" y="2233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30400" y="1727280"/>
            <a:ext cx="5081760" cy="3403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030400" y="1727280"/>
            <a:ext cx="5081760" cy="3403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90720" y="5181480"/>
            <a:ext cx="63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e tied the python with a rope and pulled them both down from the tree with a th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243828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think the python could have actually swallowed the m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981080"/>
            <a:ext cx="84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ealers to cleanse Zimbabwe of snakes By David Blair in Har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39800" y="525600"/>
            <a:ext cx="76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healers were called in yesterday to deal with snakes that are blacking out towns in Zimbabwe by coiling themselves around power transmi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2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8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70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lassic African blend of modernity and tradition, the state electricity company yesterday asked nyangas (traditional healers) to tack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4:08:21Z</dcterms:created>
  <dc:creator>Melissa Pardo</dc:creator>
  <dc:description/>
  <dc:language>en-US</dc:language>
  <cp:lastModifiedBy>Melissa Pardo</cp:lastModifiedBy>
  <dcterms:modified xsi:type="dcterms:W3CDTF">2009-05-07T16:09:16Z</dcterms:modified>
  <cp:revision>3</cp:revision>
  <dc:subject/>
  <dc:title>BBC News</dc:title>
</cp:coreProperties>
</file>