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E01-B059-4360-A657-F3569402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DD0-9074-4710-A7C3-E18FFDF9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038-3DAE-4501-866E-3E14FEE1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1A5-0EC8-4BF4-8147-049B60E5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3F71-CA03-496D-8972-233B6544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039-5ED8-4B4B-B2B5-F74FEFB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9543-ED28-4E5B-AC93-DA01567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4C94-D80C-4BEE-91F4-E18B4CC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3869-9790-4071-8C93-2712F0DF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8BAC-D16E-412D-A642-C6A45607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4263-7BDD-46BD-BB20-8F864C6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412-7939-4139-9407-1CF049A1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7659-3D8C-46A6-94AA-36A2F0D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9523-3FC6-4422-89FD-0F6B444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800F-BB81-472B-B880-88AA4257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20B-BE0A-44B7-BAF1-717A771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397-32A9-4F78-9485-ED204D83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2391-B2D1-43D6-93D5-2A22A892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D387-3A7A-40C6-BE75-4E7FDFA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77F6-57DF-4B6B-AE61-C5766568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876D-26D0-4851-AC22-A2E5B990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1B2C-16C8-445F-959C-BC980C2E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C7A-D1BE-4138-BCC1-9DC47E61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D84C-B40C-4ABA-B9C2-6BE60ED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AAFB-C878-437A-95C0-B32CCD9B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769E-530D-454F-982A-788BB04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B219-A39E-4FED-810E-7082C71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2ED1-C566-45FE-9EAF-926CCCA7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19FC-8B45-486B-BC8A-ECD9E865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3453-DEF8-4357-91F1-CA77A798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99E-8BBD-451A-9AA6-D6FB3075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312-44FC-4CF1-BE4D-F88323D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0F2-703B-4AC2-A91D-E7DE7C1E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8DF-84F6-4D2B-B6BA-1AB0B2F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E32-3283-4F77-817C-97ADEBA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C94-2170-4DF5-BDED-65ECBC61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E23-12A3-429F-961B-B4F567E4C9FC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53C0-066E-4CB8-AED7-EB372BFE4B1B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9C3C-D330-4389-BDD4-6B1798F16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-Bold"/>
              </a:rPr>
              <a:t>Man bites snake in epic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6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-Bold"/>
              </a:rPr>
              <a:t>A Kenyan  man bit a python which wrapped him in its coils and dragged him up a tree during a fierce three-hour struggle, police have told the B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rpent seized farm worker Ben Nyaumbe in Kenya.  Nyaumbe bit the snake on the tip of the tail during the exhausting battle in the Kenyan vil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296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2200" y="454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184788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40388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3120" y="50796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r Nyaumbe used his shirt to smother the snake's head and prevent it from swallow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51814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tied the python with a rope and pulled them both down from the tree with a th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243828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python could have actually swallowed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98108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alers to cleanse Zimbabwe of snakes By David Blair in Ha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39800" y="52560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healers were called in yesterday to deal with snakes that are blacking out towns in Zimbabwe by coiling themselves around power 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lassic African blend of modernity and tradition, the state electricity company yesterday asked nyangas (traditional healers) to tack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21Z</dcterms:created>
  <dc:creator>Melissa Pardo</dc:creator>
  <dc:description/>
  <dc:language>en-US</dc:language>
  <cp:lastModifiedBy>Melissa Pardo</cp:lastModifiedBy>
  <dcterms:modified xsi:type="dcterms:W3CDTF">2009-05-07T16:09:16Z</dcterms:modified>
  <cp:revision>3</cp:revision>
  <dc:subject/>
  <dc:title>BBC News</dc:title>
</cp:coreProperties>
</file>