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C1B-D692-4CEB-853F-20EE1F97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893-1BC5-466C-B0D7-9E9F3658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7A7-766C-4567-BE8D-F10475B9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223-C83B-4E6D-A04A-16D49D19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A0B-4E67-4D0B-BD9E-63F8C45E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7AC-8682-43F8-BD21-5857A873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6E1-D770-44C9-8D11-8EC2FD5C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21D-0563-4BC1-86A4-AA96DAB3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57B-E3A0-43D2-BC21-4435D38D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4F9-9B95-421E-9F46-A09161DC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100-CE6A-4654-A663-38780D7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AE0-F16D-46AA-A501-0C58729A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73FF-7D4B-4ABF-8496-97540EF1844F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solutionsite.com/lesson/8402/sequence2.p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e Life Cycle of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ming, Processing, Retain for Maste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hameeka Brook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ndrew Jackson Elementa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99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9625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ass Seed Planting Projec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class, we will be planting seeds and documenting the growth proces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on the photo to watch the stages of plant growt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733920"/>
            <a:ext cx="3886200" cy="256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Budmo Jiggler"/>
              </a:rPr>
              <a:t>Using Math to Determine Plant Growth</a:t>
            </a:r>
            <a:endParaRPr b="0" lang="en-US" sz="4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t’s use a calendar to determine how many days does it take for the seeds we planted to germina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3048120"/>
          <a:ext cx="5714640" cy="2971800"/>
        </p:xfrm>
        <a:graphic>
          <a:graphicData uri="http://schemas.openxmlformats.org/drawingml/2006/table">
            <a:tbl>
              <a:tblPr/>
              <a:tblGrid>
                <a:gridCol w="1143000"/>
                <a:gridCol w="1143720"/>
                <a:gridCol w="1141200"/>
                <a:gridCol w="1143000"/>
                <a:gridCol w="11437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1714680" cy="181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3240" y="6172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gent Orange"/>
              </a:rPr>
              <a:t>Wonderful Writing</a:t>
            </a:r>
            <a:endParaRPr b="0" lang="en-US" sz="3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Write a story about a day that you planted a seed and how you cared for it. Your story should have a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Beginning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Middle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E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Be sure to illustrate your story at the end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267080" cy="320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66"/>
                </a:solidFill>
                <a:latin typeface="Bookworm"/>
              </a:rPr>
              <a:t>Show What You Know!</a:t>
            </a:r>
            <a:endParaRPr b="0" lang="en-US" sz="50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Budmo Jiggler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Use a poster to illustrate the </a:t>
                      </a:r>
                      <a:r>
                        <a:rPr b="0" lang="en-US" sz="2800" spc="-1" strike="noStrike" u="sng">
                          <a:solidFill>
                            <a:srgbClr val="cc00cc"/>
                          </a:solidFill>
                          <a:uFillTx/>
                          <a:latin typeface="Arial"/>
                        </a:rPr>
                        <a:t>life cycle of plants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Agent Orange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Perform the </a:t>
                      </a:r>
                      <a:r>
                        <a:rPr b="0" lang="en-US" sz="28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</a:rPr>
                        <a:t>life cycle of plants</a:t>
                      </a: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 with movement and dance, but without talking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Chell Chrome"/>
                        </a:rPr>
                        <a:t>Group 3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Bradley Hand ITC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Write a song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Joker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reate a poem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87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32600" y="0"/>
            <a:ext cx="121140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78760" y="62229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tain for Mast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elebrate Good Times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06840" cy="463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24680" y="5334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glish/Language 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1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ose simple stories with a clear beginning, middle, and en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3348000"/>
            <a:ext cx="5257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7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ognize that plants and animals are living things that grow and change over tim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241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6.1.1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Use mathematical language, symbols, and definitions while developing mathematical reason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3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bout what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114800" cy="275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5791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Shar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loud with your group what things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358128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30440" y="55976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buil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ore to what we know by listing some things that plants may need in order to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29716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9760" y="5918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It’s Science Time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1447920"/>
          <a:ext cx="7772400" cy="3961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know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want to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id you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22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03920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90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Growing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Find Out More!!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n the picture to view 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1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9184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41Z</dcterms:created>
  <dc:creator>training123</dc:creator>
  <dc:description/>
  <dc:language>en-US</dc:language>
  <cp:lastModifiedBy>training123</cp:lastModifiedBy>
  <dcterms:modified xsi:type="dcterms:W3CDTF">2009-05-07T18:45:04Z</dcterms:modified>
  <cp:revision>10</cp:revision>
  <dc:subject/>
  <dc:title>The Life Cycle of Plants</dc:title>
</cp:coreProperties>
</file>