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B9E-F92C-44DE-A547-D0E987C4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DEC-C16E-43E5-A858-449E3313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051-0D14-48B1-9DBB-121AD0F9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ABC-50A1-49F7-8C31-4B95A5E8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F83-2798-4E30-BC2E-5FEA192A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490-53D7-4433-B9C7-49A046B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B6C-E875-4A43-840F-69B4898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F08-F611-4336-A16C-274B3149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89D-DE90-414D-BE28-CE09463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585-B2C0-4CE2-ABBA-CDDE7F0A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3E5-584D-43DE-A467-CC099C0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D3E-3B9A-414D-979A-19DE0C3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BEA6-020B-45B4-A4CC-A36FCF55E5B2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5:04Z</dcterms:modified>
  <cp:revision>10</cp:revision>
  <dc:subject/>
  <dc:title>The Life Cycle of Plants</dc:title>
</cp:coreProperties>
</file>