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47D3-86CD-4309-A481-128B12EC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0923-B2EB-4DE9-8B12-E77B0843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056-B397-4297-B483-F690742F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484-B4A3-4515-866F-9588D252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A05-85FE-4471-B0B3-19146955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6AE7-8EE6-43F8-BC81-D3589122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1A4-B076-4917-B4BB-AC03D517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208E-D6BD-4B7B-8109-15292F45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317-5AC2-4940-A140-9FD4501D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0C88-1480-4622-AC43-FE03210A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2D3-20AB-4DF8-A7A5-EBD09E49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566-7DD1-4187-A027-321C6443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0511-AE79-4CB4-982E-876760816F18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hesolutionsite.com/lesson/8402/sequence2.ppt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re.ngfl.gov.uk/uploads/materials/11509/Growing%20Plants%20-%201.ppt2.pp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re.ngfl.gov.uk/uploads/materials/11509/Growing%20Plants%20-%201.ppt2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e Life Cycle of Plant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iming, Processing, Retain for Master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hameeka Brook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Andrew Jackson Elementar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3399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9625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lass Seed Planting Project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class, we will be planting seeds and documenting the growth proces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Click on the photo to watch the stages of plant growth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733920"/>
            <a:ext cx="3886200" cy="2568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63240" y="624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Budmo Jiggler"/>
              </a:rPr>
              <a:t>Using Math to Determine Plant Growth</a:t>
            </a:r>
            <a:endParaRPr b="0" lang="en-US" sz="40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et’s use a calendar to determine how many days does it take for the seeds we planted to germinat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828800" y="3048120"/>
          <a:ext cx="5714640" cy="2971800"/>
        </p:xfrm>
        <a:graphic>
          <a:graphicData uri="http://schemas.openxmlformats.org/drawingml/2006/table">
            <a:tbl>
              <a:tblPr/>
              <a:tblGrid>
                <a:gridCol w="1143000"/>
                <a:gridCol w="1143720"/>
                <a:gridCol w="1141200"/>
                <a:gridCol w="1143000"/>
                <a:gridCol w="114372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Fri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1714680" cy="1819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63240" y="61722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66"/>
                </a:solidFill>
                <a:latin typeface="Agent Orange"/>
              </a:rPr>
              <a:t>Wonderful Writing</a:t>
            </a:r>
            <a:endParaRPr b="0" lang="en-US" sz="30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Write a story about a day that you planted a seed and how you cared for it. Your story should have a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Beginning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,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Middle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,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and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End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.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Be sure to illustrate your story at the end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267080" cy="3205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63240" y="624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cc66"/>
                </a:solidFill>
                <a:latin typeface="Bookworm"/>
              </a:rPr>
              <a:t>Show What You Know!</a:t>
            </a:r>
            <a:endParaRPr b="0" lang="en-US" sz="5000" spc="-1" strike="noStrike">
              <a:solidFill>
                <a:srgbClr val="00cc66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26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cc"/>
                          </a:solidFill>
                          <a:latin typeface="Budmo Jiggler"/>
                        </a:rPr>
                        <a:t>Group 1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Use a poster to illustrate the </a:t>
                      </a:r>
                      <a:r>
                        <a:rPr b="0" lang="en-US" sz="2800" spc="-1" strike="noStrike" u="sng">
                          <a:solidFill>
                            <a:srgbClr val="cc00cc"/>
                          </a:solidFill>
                          <a:uFillTx/>
                          <a:latin typeface="Arial"/>
                        </a:rPr>
                        <a:t>life cycle of plants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Agent Orange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Perform the </a:t>
                      </a:r>
                      <a:r>
                        <a:rPr b="0" lang="en-US" sz="28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</a:rPr>
                        <a:t>life cycle of plants</a:t>
                      </a:r>
                      <a:r>
                        <a:rPr b="0" lang="en-US" sz="2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 with movement and dance, but without talking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9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Chell Chrome"/>
                        </a:rPr>
                        <a:t>Group 3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Bradley Hand ITC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Write a song to tell the things plants need in order to </a:t>
                      </a: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</a:rPr>
                        <a:t>grow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Jokerman"/>
                        </a:rPr>
                        <a:t>Group 4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reate a poem to tell the things plants need in order to </a:t>
                      </a:r>
                      <a:r>
                        <a:rPr b="0" lang="en-US" sz="28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grow</a:t>
                      </a: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876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932600" y="0"/>
            <a:ext cx="1211400" cy="1863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78760" y="622296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Retain for Master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elebrate Good Times!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06840" cy="4637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924680" y="5334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0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nglish/Language Ar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1.3.1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pose simple stories with a clear beginning, middle, and end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3348000"/>
            <a:ext cx="52578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7.3.1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cognize that plants and animals are living things that grow and change over tim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241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6.1.1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Use mathematical language, symbols, and definitions while developing mathematical reasoning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32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Think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bout what you need in order to live and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4114800" cy="275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76720" y="57913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Shar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loud with your group what things you need in order to live and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3581280" cy="2390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30440" y="55976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’s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buil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ore to what we know by listing some things that plants may need in order to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297160" cy="304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49760" y="59180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It’s Science Time!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62120" y="1447920"/>
          <a:ext cx="7772400" cy="39618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16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o you know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o you want to learn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id you learn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22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039200" y="6070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8" name="" descr="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190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Growing Plant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’s Find Out More!!!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on the picture to view present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97180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91840" y="6070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55:41Z</dcterms:created>
  <dc:creator>training123</dc:creator>
  <dc:description/>
  <dc:language>en-US</dc:language>
  <cp:lastModifiedBy>training123</cp:lastModifiedBy>
  <dcterms:modified xsi:type="dcterms:W3CDTF">2009-05-07T18:45:04Z</dcterms:modified>
  <cp:revision>10</cp:revision>
  <dc:subject/>
  <dc:title>The Life Cycle of Plants</dc:title>
</cp:coreProperties>
</file>