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8.jpeg" ContentType="image/jpeg"/>
  <Override PartName="/ppt/media/image10.jpeg" ContentType="image/jpeg"/>
  <Override PartName="/ppt/media/image16.png" ContentType="image/png"/>
  <Override PartName="/ppt/media/image14.wmf" ContentType="image/x-wmf"/>
  <Override PartName="/ppt/media/image5.jpeg" ContentType="image/jpeg"/>
  <Override PartName="/ppt/media/image15.wmf" ContentType="image/x-wmf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9.jpeg" ContentType="image/jpeg"/>
  <Override PartName="/ppt/media/image11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2611A-14E1-424F-817D-CA91A1111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41761-0D21-470B-99E5-BAE97161E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E075C-34C5-4945-9585-7729B3E2E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21C66-AE99-4FC5-9317-4E420A417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FA8D8-03A4-4540-9A52-92BE5A93A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BCC67-7DA7-4BCA-8E2A-91A083A02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AC126-3DB4-4FE2-943F-6E2B9F820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E0CEA-E3CF-4225-8ECF-82B8DB329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80ACD-8D56-49B8-A227-351810751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6DA21-FB82-4390-BD38-69F82A10E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6F2FD-F0A0-42AA-A59D-8B4AB703A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28B84-2A60-449D-B9E3-E1715C829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cc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9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9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CF122-015B-4C6C-ACCB-1FA258FE52AA}" type="slidenum">
              <a:rPr b="0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thesolutionsite.com/lesson/8402/sequence2.ppt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tre.ngfl.gov.uk/uploads/materials/11509/Growing%20Plants%20-%201.ppt2.ppt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tre.ngfl.gov.uk/uploads/materials/11509/Growing%20Plants%20-%201.ppt2.ppt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66"/>
                </a:solidFill>
                <a:latin typeface="Arial"/>
              </a:rPr>
              <a:t>The Life Cycle of Plants</a:t>
            </a:r>
            <a:endParaRPr b="0" lang="en-US" sz="4400" spc="-1" strike="noStrike">
              <a:solidFill>
                <a:srgbClr val="00cc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Priming, Processing, Retain for Mastery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Shameeka Brooks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Andrew Jackson Elementary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1</a:t>
            </a:r>
            <a:r>
              <a:rPr b="0" lang="en-US" sz="1800" spc="-1" strike="noStrike" baseline="30000">
                <a:solidFill>
                  <a:srgbClr val="003399"/>
                </a:solidFill>
                <a:latin typeface="Arial"/>
              </a:rPr>
              <a:t>st</a:t>
            </a: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 Grade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514600" y="380880"/>
            <a:ext cx="3962520" cy="212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66"/>
                </a:solidFill>
                <a:latin typeface="Arial"/>
              </a:rPr>
              <a:t>Class Seed Planting Project</a:t>
            </a:r>
            <a:endParaRPr b="0" lang="en-US" sz="4400" spc="-1" strike="noStrike">
              <a:solidFill>
                <a:srgbClr val="00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s a class, we will be planting seeds and documenting the growth process.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6600"/>
                </a:solidFill>
                <a:latin typeface="Arial"/>
              </a:rPr>
              <a:t>Click on the photo to watch the stages of plant growth.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7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438280" y="3733920"/>
            <a:ext cx="3886200" cy="25686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963240" y="6248520"/>
            <a:ext cx="155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Processing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cc66"/>
                </a:solidFill>
                <a:latin typeface="Budmo Jiggler"/>
              </a:rPr>
              <a:t>Using Math to Determine Plant Growth</a:t>
            </a:r>
            <a:endParaRPr b="0" lang="en-US" sz="4000" spc="-1" strike="noStrike">
              <a:solidFill>
                <a:srgbClr val="00cc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01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Let’s use a calendar to determine how many days does it take for the seeds we planted to germinate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1828800" y="3048120"/>
          <a:ext cx="5714640" cy="2971800"/>
        </p:xfrm>
        <a:graphic>
          <a:graphicData uri="http://schemas.openxmlformats.org/drawingml/2006/table">
            <a:tbl>
              <a:tblPr/>
              <a:tblGrid>
                <a:gridCol w="1143000"/>
                <a:gridCol w="1143720"/>
                <a:gridCol w="1141200"/>
                <a:gridCol w="1143000"/>
                <a:gridCol w="1143720"/>
              </a:tblGrid>
              <a:tr h="59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Monday</a:t>
                      </a:r>
                      <a:endParaRPr b="0" lang="en-US" sz="14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Tuesday</a:t>
                      </a:r>
                      <a:endParaRPr b="0" lang="en-US" sz="14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Wednesday</a:t>
                      </a:r>
                      <a:endParaRPr b="0" lang="en-US" sz="14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Thursday</a:t>
                      </a:r>
                      <a:endParaRPr b="0" lang="en-US" sz="14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Friday</a:t>
                      </a:r>
                      <a:endParaRPr b="0" lang="en-US" sz="14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noFill/>
                  </a:tcPr>
                </a:tc>
              </a:tr>
              <a:tr h="59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noFill/>
                  </a:tcPr>
                </a:tc>
              </a:tr>
              <a:tr h="59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noFill/>
                  </a:tcPr>
                </a:tc>
              </a:tr>
              <a:tr h="59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noFill/>
                  </a:tcPr>
                </a:tc>
              </a:tr>
              <a:tr h="59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1714680" cy="18190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3963240" y="6172200"/>
            <a:ext cx="155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Processing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cc66"/>
                </a:solidFill>
                <a:latin typeface="Agent Orange"/>
              </a:rPr>
              <a:t>Wonderful Writing</a:t>
            </a:r>
            <a:endParaRPr b="0" lang="en-US" sz="3000" spc="-1" strike="noStrike">
              <a:solidFill>
                <a:srgbClr val="00cc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99"/>
                </a:solidFill>
                <a:latin typeface="Arial"/>
              </a:rPr>
              <a:t>Write a story about a day that you planted a seed and how you cared for it. Your story should have a </a:t>
            </a:r>
            <a:r>
              <a:rPr b="0" lang="en-US" sz="2500" spc="-1" strike="noStrike" u="sng">
                <a:solidFill>
                  <a:srgbClr val="00a800"/>
                </a:solidFill>
                <a:uFillTx/>
                <a:latin typeface="Arial"/>
              </a:rPr>
              <a:t>Beginning</a:t>
            </a:r>
            <a:r>
              <a:rPr b="0" lang="en-US" sz="2500" spc="-1" strike="noStrike">
                <a:solidFill>
                  <a:srgbClr val="00a800"/>
                </a:solidFill>
                <a:latin typeface="Arial"/>
              </a:rPr>
              <a:t>, </a:t>
            </a:r>
            <a:r>
              <a:rPr b="0" lang="en-US" sz="2500" spc="-1" strike="noStrike" u="sng">
                <a:solidFill>
                  <a:srgbClr val="00a800"/>
                </a:solidFill>
                <a:uFillTx/>
                <a:latin typeface="Arial"/>
              </a:rPr>
              <a:t>Middle</a:t>
            </a:r>
            <a:r>
              <a:rPr b="0" lang="en-US" sz="2500" spc="-1" strike="noStrike">
                <a:solidFill>
                  <a:srgbClr val="00a800"/>
                </a:solidFill>
                <a:latin typeface="Arial"/>
              </a:rPr>
              <a:t>, </a:t>
            </a:r>
            <a:r>
              <a:rPr b="0" lang="en-US" sz="2500" spc="-1" strike="noStrike">
                <a:solidFill>
                  <a:srgbClr val="003399"/>
                </a:solidFill>
                <a:latin typeface="Arial"/>
              </a:rPr>
              <a:t>and</a:t>
            </a:r>
            <a:r>
              <a:rPr b="0" lang="en-US" sz="2500" spc="-1" strike="noStrike">
                <a:solidFill>
                  <a:srgbClr val="00a800"/>
                </a:solidFill>
                <a:latin typeface="Arial"/>
              </a:rPr>
              <a:t> </a:t>
            </a:r>
            <a:r>
              <a:rPr b="0" lang="en-US" sz="2500" spc="-1" strike="noStrike" u="sng">
                <a:solidFill>
                  <a:srgbClr val="00a800"/>
                </a:solidFill>
                <a:uFillTx/>
                <a:latin typeface="Arial"/>
              </a:rPr>
              <a:t>End</a:t>
            </a:r>
            <a:r>
              <a:rPr b="0" lang="en-US" sz="2500" spc="-1" strike="noStrike">
                <a:solidFill>
                  <a:srgbClr val="00a800"/>
                </a:solidFill>
                <a:latin typeface="Arial"/>
              </a:rPr>
              <a:t>. </a:t>
            </a:r>
            <a:r>
              <a:rPr b="0" lang="en-US" sz="2500" spc="-1" strike="noStrike">
                <a:solidFill>
                  <a:srgbClr val="003399"/>
                </a:solidFill>
                <a:latin typeface="Arial"/>
              </a:rPr>
              <a:t>Be sure to illustrate your story at the end.</a:t>
            </a:r>
            <a:endParaRPr b="0" lang="en-US" sz="25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2514600" y="2895480"/>
            <a:ext cx="4267080" cy="32054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3963240" y="6248520"/>
            <a:ext cx="155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Processing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cc66"/>
                </a:solidFill>
                <a:latin typeface="Bookworm"/>
              </a:rPr>
              <a:t>Show What You Know!</a:t>
            </a:r>
            <a:endParaRPr b="0" lang="en-US" sz="5000" spc="-1" strike="noStrike">
              <a:solidFill>
                <a:srgbClr val="00cc66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457200" y="1600200"/>
          <a:ext cx="8229600" cy="42670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231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00cc"/>
                          </a:solidFill>
                          <a:latin typeface="Budmo Jiggler"/>
                        </a:rPr>
                        <a:t>Group 1</a:t>
                      </a:r>
                      <a:endParaRPr b="0" lang="en-US" sz="2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00cc"/>
                          </a:solidFill>
                          <a:latin typeface="Arial"/>
                        </a:rPr>
                        <a:t>Use a poster to illustrate the </a:t>
                      </a:r>
                      <a:r>
                        <a:rPr b="0" lang="en-US" sz="2800" spc="-1" strike="noStrike" u="sng">
                          <a:solidFill>
                            <a:srgbClr val="cc00cc"/>
                          </a:solidFill>
                          <a:uFillTx/>
                          <a:latin typeface="Arial"/>
                        </a:rPr>
                        <a:t>life cycle of plants.</a:t>
                      </a:r>
                      <a:endParaRPr b="0" lang="en-US" sz="2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8080"/>
                          </a:solidFill>
                          <a:latin typeface="Agent Orange"/>
                        </a:rPr>
                        <a:t>Group 2</a:t>
                      </a:r>
                      <a:endParaRPr b="0" lang="en-US" sz="2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8080"/>
                          </a:solidFill>
                          <a:latin typeface="Arial"/>
                        </a:rPr>
                        <a:t>Perform the </a:t>
                      </a:r>
                      <a:r>
                        <a:rPr b="0" lang="en-US" sz="2800" spc="-1" strike="noStrike" u="sng">
                          <a:solidFill>
                            <a:srgbClr val="008080"/>
                          </a:solidFill>
                          <a:uFillTx/>
                          <a:latin typeface="Arial"/>
                        </a:rPr>
                        <a:t>life cycle of plants</a:t>
                      </a:r>
                      <a:r>
                        <a:rPr b="0" lang="en-US" sz="2800" spc="-1" strike="noStrike">
                          <a:solidFill>
                            <a:srgbClr val="008080"/>
                          </a:solidFill>
                          <a:latin typeface="Arial"/>
                        </a:rPr>
                        <a:t> with movement and dance, but without talking.</a:t>
                      </a:r>
                      <a:endParaRPr b="0" lang="en-US" sz="2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noFill/>
                  </a:tcPr>
                </a:tc>
              </a:tr>
              <a:tr h="195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ccff"/>
                          </a:solidFill>
                          <a:latin typeface="Chell Chrome"/>
                        </a:rPr>
                        <a:t>Group 3</a:t>
                      </a:r>
                      <a:r>
                        <a:rPr b="1" lang="en-US" sz="2800" spc="-1" strike="noStrike">
                          <a:solidFill>
                            <a:srgbClr val="00ccff"/>
                          </a:solidFill>
                          <a:latin typeface="Bradley Hand ITC"/>
                        </a:rPr>
                        <a:t> </a:t>
                      </a:r>
                      <a:endParaRPr b="0" lang="en-US" sz="2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ccff"/>
                          </a:solidFill>
                          <a:latin typeface="Arial"/>
                        </a:rPr>
                        <a:t>Write a song to tell the things plants need in order to </a:t>
                      </a:r>
                      <a:r>
                        <a:rPr b="0" lang="en-US" sz="2800" spc="-1" strike="noStrike" u="sng">
                          <a:solidFill>
                            <a:srgbClr val="00ccff"/>
                          </a:solidFill>
                          <a:uFillTx/>
                          <a:latin typeface="Arial"/>
                        </a:rPr>
                        <a:t>grow</a:t>
                      </a:r>
                      <a:r>
                        <a:rPr b="0" lang="en-US" sz="2800" spc="-1" strike="noStrike">
                          <a:solidFill>
                            <a:srgbClr val="00ccff"/>
                          </a:solidFill>
                          <a:latin typeface="Arial"/>
                        </a:rPr>
                        <a:t>. </a:t>
                      </a:r>
                      <a:endParaRPr b="0" lang="en-US" sz="2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00"/>
                          </a:solidFill>
                          <a:latin typeface="Jokerman"/>
                        </a:rPr>
                        <a:t>Group 4</a:t>
                      </a:r>
                      <a:endParaRPr b="0" lang="en-US" sz="2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Create a poem to tell the things plants need in order to </a:t>
                      </a:r>
                      <a:r>
                        <a:rPr b="0" lang="en-US" sz="2800" spc="-1" strike="noStrike" u="sng">
                          <a:solidFill>
                            <a:srgbClr val="ff6600"/>
                          </a:solidFill>
                          <a:uFillTx/>
                          <a:latin typeface="Arial"/>
                        </a:rPr>
                        <a:t>grow</a:t>
                      </a:r>
                      <a:r>
                        <a:rPr b="0" lang="en-US" sz="28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.</a:t>
                      </a:r>
                      <a:endParaRPr b="0" lang="en-US" sz="2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28760" cy="13716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7932600" y="0"/>
            <a:ext cx="1211400" cy="18637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3578760" y="6222960"/>
            <a:ext cx="240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Retain for Mastery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66"/>
                </a:solidFill>
                <a:latin typeface="Arial"/>
              </a:rPr>
              <a:t>Celebrate Good Times!</a:t>
            </a:r>
            <a:endParaRPr b="0" lang="en-US" sz="4400" spc="-1" strike="noStrike">
              <a:solidFill>
                <a:srgbClr val="00cc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2362320" y="1523880"/>
            <a:ext cx="4506840" cy="46371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7924680" y="5334120"/>
            <a:ext cx="762120" cy="76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901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66"/>
                </a:solidFill>
                <a:latin typeface="Arial"/>
              </a:rPr>
              <a:t>STANDARDS</a:t>
            </a:r>
            <a:endParaRPr b="0" lang="en-US" sz="4400" spc="-1" strike="noStrike">
              <a:solidFill>
                <a:srgbClr val="00cc66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English/Language Art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GLE 0101.3.1 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Compose simple stories with a clear beginning, middle, and end.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514600" y="3348000"/>
            <a:ext cx="525780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66"/>
                </a:solidFill>
                <a:latin typeface="Arial"/>
              </a:rPr>
              <a:t>STANDARDS</a:t>
            </a:r>
            <a:endParaRPr b="0" lang="en-US" sz="4400" spc="-1" strike="noStrike">
              <a:solidFill>
                <a:srgbClr val="00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Science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GLE 0107.3.1 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Recognize that plants and animals are living things that grow and change over time.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495680" y="3276720"/>
            <a:ext cx="241164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66"/>
                </a:solidFill>
                <a:latin typeface="Arial"/>
              </a:rPr>
              <a:t>STANDARDS</a:t>
            </a:r>
            <a:endParaRPr b="0" lang="en-US" sz="4400" spc="-1" strike="noStrike">
              <a:solidFill>
                <a:srgbClr val="00cc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Math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GLE 0106.1.1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 Use mathematical language, symbols, and definitions while developing mathematical reasoning.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486400" y="3200400"/>
            <a:ext cx="253224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66"/>
                </a:solidFill>
                <a:latin typeface="Arial"/>
              </a:rPr>
              <a:t>Think-Share-Build Groups</a:t>
            </a:r>
            <a:endParaRPr b="0" lang="en-US" sz="4400" spc="-1" strike="noStrike">
              <a:solidFill>
                <a:srgbClr val="00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3399"/>
                </a:solidFill>
                <a:uFillTx/>
                <a:latin typeface="Arial"/>
              </a:rPr>
              <a:t>Think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 about what you need in order to live and grow.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209680" y="2895480"/>
            <a:ext cx="4114800" cy="27561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276720" y="5791320"/>
            <a:ext cx="236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Priming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66"/>
                </a:solidFill>
                <a:latin typeface="Arial"/>
              </a:rPr>
              <a:t>Think-Share-Build Groups</a:t>
            </a:r>
            <a:endParaRPr b="0" lang="en-US" sz="4400" spc="-1" strike="noStrike">
              <a:solidFill>
                <a:srgbClr val="00cc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3399"/>
                </a:solidFill>
                <a:uFillTx/>
                <a:latin typeface="Arial"/>
              </a:rPr>
              <a:t>Share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 aloud with your group what things you need in order to live and grow.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362320" y="2743200"/>
            <a:ext cx="3581280" cy="23907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3430440" y="5597640"/>
            <a:ext cx="112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Priming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66"/>
                </a:solidFill>
                <a:latin typeface="Arial"/>
              </a:rPr>
              <a:t>Think-Share-Build Groups</a:t>
            </a:r>
            <a:endParaRPr b="0" lang="en-US" sz="4400" spc="-1" strike="noStrike">
              <a:solidFill>
                <a:srgbClr val="00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Let’s </a:t>
            </a:r>
            <a:r>
              <a:rPr b="1" lang="en-US" sz="3200" spc="-1" strike="noStrike" u="sng">
                <a:solidFill>
                  <a:srgbClr val="003399"/>
                </a:solidFill>
                <a:uFillTx/>
                <a:latin typeface="Arial"/>
              </a:rPr>
              <a:t>build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 more to what we know by listing some things that plants may need in order to grow.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___________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___________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___________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5638680" y="2666880"/>
            <a:ext cx="2297160" cy="30481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4649760" y="5918040"/>
            <a:ext cx="112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Priming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66"/>
                </a:solidFill>
                <a:latin typeface="Arial"/>
              </a:rPr>
              <a:t>It’s Science Time!</a:t>
            </a:r>
            <a:endParaRPr b="0" lang="en-US" sz="4400" spc="-1" strike="noStrike">
              <a:solidFill>
                <a:srgbClr val="00cc66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762120" y="1447920"/>
          <a:ext cx="7772400" cy="3961800"/>
        </p:xfrm>
        <a:graphic>
          <a:graphicData uri="http://schemas.openxmlformats.org/drawingml/2006/table">
            <a:tbl>
              <a:tblPr/>
              <a:tblGrid>
                <a:gridCol w="2590560"/>
                <a:gridCol w="2590920"/>
                <a:gridCol w="2590920"/>
              </a:tblGrid>
              <a:tr h="169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K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What do you know about the plant life cycle?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W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What do you want to learn about the plant life cycle?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L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What did you learn about the plant life cycle?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noFill/>
                  </a:tcPr>
                </a:tc>
              </a:tr>
              <a:tr h="226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7" name=""/>
          <p:cNvSpPr/>
          <p:nvPr/>
        </p:nvSpPr>
        <p:spPr>
          <a:xfrm>
            <a:off x="4039200" y="6070680"/>
            <a:ext cx="155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Processing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8" name="" descr="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119052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66"/>
                </a:solidFill>
                <a:latin typeface="Arial"/>
              </a:rPr>
              <a:t>Growing Plants</a:t>
            </a:r>
            <a:endParaRPr b="0" lang="en-US" sz="4400" spc="-1" strike="noStrike">
              <a:solidFill>
                <a:srgbClr val="00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Let’s Find Out More!!!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Click on the picture to view presentation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7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743200" y="2971800"/>
            <a:ext cx="4114800" cy="29718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4191840" y="6070680"/>
            <a:ext cx="155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Processing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7T13:55:41Z</dcterms:created>
  <dc:creator>training123</dc:creator>
  <dc:description/>
  <dc:language>en-US</dc:language>
  <cp:lastModifiedBy>training123</cp:lastModifiedBy>
  <dcterms:modified xsi:type="dcterms:W3CDTF">2009-05-07T18:45:04Z</dcterms:modified>
  <cp:revision>10</cp:revision>
  <dc:subject/>
  <dc:title>The Life Cycle of Plants</dc:title>
</cp:coreProperties>
</file>