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0E4-117F-41C1-AF86-665502FC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0D5-10F2-4030-9683-86B82ED4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2D3-A519-4938-80B2-757461D4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620-0BB1-4F0E-9CAE-3EB070D3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D6E-6474-4AC3-A334-B1A9917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C00-750A-4F6D-B6E6-334FCDE0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415-2C1F-4775-B760-9F857E9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599-B1B2-426D-B992-B79B441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D46-808C-4386-96E4-276842E4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607-DEF4-4F6D-89B0-5AAE97E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7A0-C529-4D2D-ADF3-7EBB1F8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D23-47CE-4353-A6E6-96198D3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EF0-BCBB-4CDF-9F69-D41DED2490C8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5:04Z</dcterms:modified>
  <cp:revision>10</cp:revision>
  <dc:subject/>
  <dc:title>The Life Cycle of Plants</dc:title>
</cp:coreProperties>
</file>