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38-2463-4F2F-AC74-F00A121D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227-1363-47EF-B456-D68483C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D4E-CC55-426C-A277-419710F8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38D-9DA9-4321-8D7B-1D1B47FE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E38-600F-4CFF-92B4-24549BC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AF8-87C7-40B7-A589-B9F5308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D94-616D-4689-89A8-1C39660B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D13-F10A-4F69-99BE-E386641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997-012C-418D-B2C8-47FDBC6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853-F2FF-4DA5-9A60-98BB0A7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57D-3F20-4B5C-90B6-5EA3B81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B2A-279F-4789-9459-DEE21EC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95ED-46A8-4BD2-8745-3118FA38E6DD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0:08Z</dcterms:modified>
  <cp:revision>10</cp:revision>
  <dc:subject/>
  <dc:title>The Life Cycle of Plants</dc:title>
</cp:coreProperties>
</file>