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967-E33A-4EAA-9263-0310334E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0E6-209E-488C-B0B5-5C2D2029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99C-F0D2-432E-90E9-9351DAC0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193-26F8-484D-9E0D-C93B9A11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AC5-F79D-4521-A702-4560063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241-1A3A-41B2-B918-14DACDF1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CE2-C9F6-4FC3-AB45-9300F7A2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64C-CEBF-49DD-8300-DB94F69C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856-F4C9-4E67-9F95-7E3D817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6F4-D922-45D9-9E72-EED3FDA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FEF-DBA0-449A-A801-972E45F9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7E8-4854-4D25-A86E-503E30D4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1DE5-2081-4816-9093-96B74F3F3930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0:08Z</dcterms:modified>
  <cp:revision>10</cp:revision>
  <dc:subject/>
  <dc:title>The Life Cycle of Plants</dc:title>
</cp:coreProperties>
</file>