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6.png" ContentType="image/png"/>
  <Override PartName="/ppt/media/image14.wmf" ContentType="image/x-wmf"/>
  <Override PartName="/ppt/media/image5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B15B-B10E-4244-A9C7-A49A51DCB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9B25-DCB5-4479-A559-B783064A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31F3-565E-472B-A081-8AC86C847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4146-C166-4FE7-9AD9-137AFEFCE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B33E-6B63-43B4-B43E-FD62726D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6BC9-73D2-475E-9E33-FB0553B8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B886-13BF-4F35-B677-1FE2B59A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0C7E-6BD2-4AAB-AB87-1D82DA75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B2DE-9B43-426C-928C-1AEA7CA0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5138-604F-4F9B-A361-7C3B8CA2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AC4A-1C0C-4F12-B494-1283C071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8794-4802-4C7E-8C0F-A4B0A6E7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E670-F8FC-4043-A2B6-B8706311DC0D}" type="slidenum">
              <a:rPr b="0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hesolutionsite.com/lesson/8402/sequence2.ppt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tre.ngfl.gov.uk/uploads/materials/11509/Growing%20Plants%20-%201.ppt2.ppt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tre.ngfl.gov.uk/uploads/materials/11509/Growing%20Plants%20-%201.ppt2.ppt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The Life Cycle of Plant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riming, Processing, Retain for Master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hameeka Brook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Andrew Jackson Elementary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3399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Grad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14600" y="380880"/>
            <a:ext cx="396252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Class Seed Planting Project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 class, we will be planting seeds and documenting the growth process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Click on the photo to watch the stages of plant growth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3733920"/>
            <a:ext cx="3886200" cy="2568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63240" y="624852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66"/>
                </a:solidFill>
                <a:latin typeface="Budmo Jiggler"/>
              </a:rPr>
              <a:t>Using Math to Determine Plant Growth</a:t>
            </a:r>
            <a:endParaRPr b="0" lang="en-US" sz="40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Let’s use a calendar to determine how many days does it take for the seeds we planted to germinate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828800" y="3048120"/>
          <a:ext cx="5714640" cy="2971800"/>
        </p:xfrm>
        <a:graphic>
          <a:graphicData uri="http://schemas.openxmlformats.org/drawingml/2006/table">
            <a:tbl>
              <a:tblPr/>
              <a:tblGrid>
                <a:gridCol w="1143000"/>
                <a:gridCol w="1143720"/>
                <a:gridCol w="1141200"/>
                <a:gridCol w="1143000"/>
                <a:gridCol w="114372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onday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uesday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Wednesday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hursday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Friday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1714680" cy="1819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963240" y="617220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cc66"/>
                </a:solidFill>
                <a:latin typeface="Agent Orange"/>
              </a:rPr>
              <a:t>Wonderful Writing</a:t>
            </a:r>
            <a:endParaRPr b="0" lang="en-US" sz="30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Write a story about a day that you planted a seed and how you cared for it. Your story should have a </a:t>
            </a:r>
            <a:r>
              <a:rPr b="0" lang="en-US" sz="2500" spc="-1" strike="noStrike" u="sng">
                <a:solidFill>
                  <a:srgbClr val="00a800"/>
                </a:solidFill>
                <a:uFillTx/>
                <a:latin typeface="Arial"/>
              </a:rPr>
              <a:t>Beginning</a:t>
            </a:r>
            <a:r>
              <a:rPr b="0" lang="en-US" sz="2500" spc="-1" strike="noStrike">
                <a:solidFill>
                  <a:srgbClr val="00a800"/>
                </a:solidFill>
                <a:latin typeface="Arial"/>
              </a:rPr>
              <a:t>, </a:t>
            </a:r>
            <a:r>
              <a:rPr b="0" lang="en-US" sz="2500" spc="-1" strike="noStrike" u="sng">
                <a:solidFill>
                  <a:srgbClr val="00a800"/>
                </a:solidFill>
                <a:uFillTx/>
                <a:latin typeface="Arial"/>
              </a:rPr>
              <a:t>Middle</a:t>
            </a:r>
            <a:r>
              <a:rPr b="0" lang="en-US" sz="2500" spc="-1" strike="noStrike">
                <a:solidFill>
                  <a:srgbClr val="00a800"/>
                </a:solidFill>
                <a:latin typeface="Arial"/>
              </a:rPr>
              <a:t>, </a:t>
            </a: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and</a:t>
            </a:r>
            <a:r>
              <a:rPr b="0" lang="en-US" sz="2500" spc="-1" strike="noStrike">
                <a:solidFill>
                  <a:srgbClr val="00a800"/>
                </a:solidFill>
                <a:latin typeface="Arial"/>
              </a:rPr>
              <a:t> </a:t>
            </a:r>
            <a:r>
              <a:rPr b="0" lang="en-US" sz="2500" spc="-1" strike="noStrike" u="sng">
                <a:solidFill>
                  <a:srgbClr val="00a800"/>
                </a:solidFill>
                <a:uFillTx/>
                <a:latin typeface="Arial"/>
              </a:rPr>
              <a:t>End</a:t>
            </a:r>
            <a:r>
              <a:rPr b="0" lang="en-US" sz="2500" spc="-1" strike="noStrike">
                <a:solidFill>
                  <a:srgbClr val="00a800"/>
                </a:solidFill>
                <a:latin typeface="Arial"/>
              </a:rPr>
              <a:t>. </a:t>
            </a: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Be sure to illustrate your story at the end.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514600" y="2895480"/>
            <a:ext cx="4267080" cy="3205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963240" y="624852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cc66"/>
                </a:solidFill>
                <a:latin typeface="Bookworm"/>
              </a:rPr>
              <a:t>Show What You Know!</a:t>
            </a:r>
            <a:endParaRPr b="0" lang="en-US" sz="5000" spc="-1" strike="noStrike">
              <a:solidFill>
                <a:srgbClr val="00cc66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600200"/>
          <a:ext cx="8229600" cy="4267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3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cc"/>
                          </a:solidFill>
                          <a:latin typeface="Budmo Jiggler"/>
                        </a:rPr>
                        <a:t>Group 1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Use a poster to illustrate the </a:t>
                      </a:r>
                      <a:r>
                        <a:rPr b="0" lang="en-US" sz="2800" spc="-1" strike="noStrike" u="sng">
                          <a:solidFill>
                            <a:srgbClr val="cc00cc"/>
                          </a:solidFill>
                          <a:uFillTx/>
                          <a:latin typeface="Arial"/>
                        </a:rPr>
                        <a:t>life cycle of plants.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80"/>
                          </a:solidFill>
                          <a:latin typeface="Agent Orange"/>
                        </a:rPr>
                        <a:t>Group 2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Perform the </a:t>
                      </a:r>
                      <a:r>
                        <a:rPr b="0" lang="en-US" sz="28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</a:rPr>
                        <a:t>life cycle of plants</a:t>
                      </a:r>
                      <a:r>
                        <a:rPr b="0" lang="en-US" sz="2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 with movement and dance, but without talking.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195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Chell Chrome"/>
                        </a:rPr>
                        <a:t>Group 3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Bradley Hand ITC"/>
                        </a:rPr>
                        <a:t> 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Write a song to tell the things plants need in order to </a:t>
                      </a:r>
                      <a:r>
                        <a:rPr b="0" lang="en-US" sz="2800" spc="-1" strike="noStrike" u="sng">
                          <a:solidFill>
                            <a:srgbClr val="00ccff"/>
                          </a:solidFill>
                          <a:uFillTx/>
                          <a:latin typeface="Arial"/>
                        </a:rPr>
                        <a:t>grow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. 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00"/>
                          </a:solidFill>
                          <a:latin typeface="Jokerman"/>
                        </a:rPr>
                        <a:t>Group 4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Create a poem to tell the things plants need in order to </a:t>
                      </a:r>
                      <a:r>
                        <a:rPr b="0" lang="en-US" sz="2800" spc="-1" strike="noStrike" u="sng">
                          <a:solidFill>
                            <a:srgbClr val="ff6600"/>
                          </a:solidFill>
                          <a:uFillTx/>
                          <a:latin typeface="Arial"/>
                        </a:rPr>
                        <a:t>grow</a:t>
                      </a: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28760" cy="1371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932600" y="0"/>
            <a:ext cx="1211400" cy="1863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578760" y="6222960"/>
            <a:ext cx="240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Retain for Master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Celebrate Good Times!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506840" cy="4637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924680" y="53341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0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English/Language Ar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LE 0101.3.1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mpose simple stories with a clear beginning, middle, and end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14600" y="3348000"/>
            <a:ext cx="52578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cienc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LE 0107.3.1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ecognize that plants and animals are living things that grow and change over time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95680" y="3276720"/>
            <a:ext cx="24116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Math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LE 0106.1.1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Use mathematical language, symbols, and definitions while developing mathematical reasoning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86400" y="3200400"/>
            <a:ext cx="2532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Think-Share-Build Group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99"/>
                </a:solidFill>
                <a:uFillTx/>
                <a:latin typeface="Arial"/>
              </a:rPr>
              <a:t>Think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about what you need in order to live and grow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09680" y="2895480"/>
            <a:ext cx="4114800" cy="2756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276720" y="57913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im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Think-Share-Build Group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99"/>
                </a:solidFill>
                <a:uFillTx/>
                <a:latin typeface="Arial"/>
              </a:rPr>
              <a:t>Share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aloud with your group what things you need in order to live and grow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62320" y="2743200"/>
            <a:ext cx="3581280" cy="2390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430440" y="559764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im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Think-Share-Build Group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et’s </a:t>
            </a:r>
            <a:r>
              <a:rPr b="1" lang="en-US" sz="3200" spc="-1" strike="noStrike" u="sng">
                <a:solidFill>
                  <a:srgbClr val="003399"/>
                </a:solidFill>
                <a:uFillTx/>
                <a:latin typeface="Arial"/>
              </a:rPr>
              <a:t>build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more to what we know by listing some things that plants may need in order to grow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___________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___________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___________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638680" y="2666880"/>
            <a:ext cx="2297160" cy="3048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649760" y="591804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im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It’s Science Time!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62120" y="1447920"/>
          <a:ext cx="7772400" cy="396180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  <a:gridCol w="2590920"/>
              </a:tblGrid>
              <a:tr h="169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What do you know about the plant life cycle?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W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What do you want to learn about the plant life cycle?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What did you learn about the plant life cycle?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22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4039200" y="60706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8" name="" descr="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1905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Growing Plant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et’s Find Out More!!!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on the picture to view presentat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2971800"/>
            <a:ext cx="4114800" cy="2971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191840" y="60706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3:55:41Z</dcterms:created>
  <dc:creator>training123</dc:creator>
  <dc:description/>
  <dc:language>en-US</dc:language>
  <cp:lastModifiedBy>training123</cp:lastModifiedBy>
  <dcterms:modified xsi:type="dcterms:W3CDTF">2009-05-07T18:40:08Z</dcterms:modified>
  <cp:revision>10</cp:revision>
  <dc:subject/>
  <dc:title>The Life Cycle of Plants</dc:title>
</cp:coreProperties>
</file>