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3A4-F69E-4C45-988E-1C27BF66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7F1-CDBE-484B-8AF9-053769F8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163-4A9D-4C9A-A97F-3F8AEC88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458-0360-4FE6-A882-C588F066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096-BBC8-4FFC-AA7A-192C19E2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C97-83D0-4E03-BD5B-89457213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D02-F56F-478A-AF0D-E697AE14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7B6-7FEB-4307-9635-EFB0AF81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8AB-4625-456F-BB17-74290126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8FE-319C-4BF9-A7A4-143E3869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976-B507-4F99-B779-DF00D058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A46-6896-4CF6-AC40-A7C3558F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4651-A313-49C7-8C98-229BFD4BBFF7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olutionsite.com/lesson/8402/sequence2.p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re.ngfl.gov.uk/uploads/materials/11509/Growing%20Plants%20-%201.ppt2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e Life Cycle of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ming, Processing, Retain for Maste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hameeka Brook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ndrew Jackson Elementa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99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9625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lass Seed Planting Project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class, we will be planting seeds and documenting the growth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Click on the photo to watch the stages of plant growt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733920"/>
            <a:ext cx="3886200" cy="256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Budmo Jiggler"/>
              </a:rPr>
              <a:t>Using Math to Determine Plant Growth</a:t>
            </a:r>
            <a:endParaRPr b="0" lang="en-US" sz="4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t’s use a calendar to determine how many days does it take for the seeds we planted to germina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3048120"/>
          <a:ext cx="5714640" cy="297180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1141200"/>
                <a:gridCol w="1143000"/>
                <a:gridCol w="11437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iday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1714680" cy="181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3240" y="6172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gent Orange"/>
              </a:rPr>
              <a:t>Wonderful Writing</a:t>
            </a:r>
            <a:endParaRPr b="0" lang="en-US" sz="30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Write a story about a day that you planted a seed and how you cared for it. Your story should have a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Beginning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Middle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2500" spc="-1" strike="noStrike" u="sng">
                <a:solidFill>
                  <a:srgbClr val="00a800"/>
                </a:solidFill>
                <a:uFillTx/>
                <a:latin typeface="Arial"/>
              </a:rPr>
              <a:t>End</a:t>
            </a:r>
            <a:r>
              <a:rPr b="0" lang="en-US" sz="2500" spc="-1" strike="noStrike">
                <a:solidFill>
                  <a:srgbClr val="00a8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Be sure to illustrate your story at the end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267080" cy="320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324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66"/>
                </a:solidFill>
                <a:latin typeface="Bookworm"/>
              </a:rPr>
              <a:t>Show What You Know!</a:t>
            </a:r>
            <a:endParaRPr b="0" lang="en-US" sz="50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Budmo Jiggler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Use a poster to illustrate the </a:t>
                      </a:r>
                      <a:r>
                        <a:rPr b="0" lang="en-US" sz="2800" spc="-1" strike="noStrike" u="sng">
                          <a:solidFill>
                            <a:srgbClr val="cc00cc"/>
                          </a:solidFill>
                          <a:uFillTx/>
                          <a:latin typeface="Arial"/>
                        </a:rPr>
                        <a:t>life cycle of plants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Agent Orange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Perform the </a:t>
                      </a:r>
                      <a:r>
                        <a:rPr b="0" lang="en-US" sz="28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</a:rPr>
                        <a:t>life cycle of plants</a:t>
                      </a:r>
                      <a:r>
                        <a:rPr b="0" lang="en-US" sz="2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 with movement and dance, but without talking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Chell Chrome"/>
                        </a:rPr>
                        <a:t>Group 3</a:t>
                      </a:r>
                      <a:r>
                        <a:rPr b="1" lang="en-US" sz="2800" spc="-1" strike="noStrike">
                          <a:solidFill>
                            <a:srgbClr val="00ccff"/>
                          </a:solidFill>
                          <a:latin typeface="Bradley Hand ITC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Write a song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Jokerman"/>
                        </a:rPr>
                        <a:t>Group 4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reate a poem to tell the things plants need in order to </a:t>
                      </a:r>
                      <a:r>
                        <a:rPr b="0" lang="en-US" sz="2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grow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876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32600" y="0"/>
            <a:ext cx="121140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78760" y="62229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tain for Mast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Celebrate Good Times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06840" cy="463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24680" y="5334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glish/Language 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1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ose simple stories with a clear beginning, middle, and en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334800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7.3.1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gnize that plants and animals are living things that grow and change over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241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E 0106.1.1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mathematical language, symbols, and definitions while developing mathematical reason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3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Thin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bout what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114800" cy="275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5791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Shar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loud with your group what things you need in order to live and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358128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30440" y="55976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Think-Share-Build Group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ore to what we know by listing some things that plants may need in order to grow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29716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9760" y="5918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im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t’s Science Time!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1447920"/>
          <a:ext cx="7772400" cy="3961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know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o you want to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hat did you learn about the plant life cycle?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22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03920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190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Growing Plants</a:t>
            </a:r>
            <a:endParaRPr b="0" lang="en-US" sz="4400" spc="-1" strike="noStrike">
              <a:solidFill>
                <a:srgbClr val="00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’s Find Out More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n the picture to view 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1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91840" y="6070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41Z</dcterms:created>
  <dc:creator>training123</dc:creator>
  <dc:description/>
  <dc:language>en-US</dc:language>
  <cp:lastModifiedBy>training123</cp:lastModifiedBy>
  <dcterms:modified xsi:type="dcterms:W3CDTF">2009-05-07T18:40:08Z</dcterms:modified>
  <cp:revision>10</cp:revision>
  <dc:subject/>
  <dc:title>The Life Cycle of Plants</dc:title>
</cp:coreProperties>
</file>