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jpeg" ContentType="image/jpeg"/>
  <Override PartName="/ppt/media/image6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6D0C-E0DA-4F33-AA51-20212CFFF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DC16-CD4A-4881-9377-FFED598B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C75F5-6800-4AF3-87F7-3A3A90D0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B5D81-43BF-4CCA-9740-6AC90932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B350C-3087-4F45-8B86-596D3C79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7881E-210C-4DE3-9AA9-CCA2EA80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EE3996-AA43-4E1C-9E3B-0CC534A9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B84D6-45D0-437E-AC12-C692D6D6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33E64-E443-4A68-A649-F0B4EE70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6212B-BF8D-4B2B-9735-65EF09A5C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6C488-7385-4609-ACC0-B9CA709DB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EC75C4-5E38-4101-A32E-07C2E7DD9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7591-1072-498A-84D6-399085841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762A8F-E0CA-41CC-81C8-D90F2648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65C40-322C-4707-AA1C-59C24AD1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3A3D0D-9F34-458A-8F68-5FD7885F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F8CB85-FCAE-4981-8795-D3B5C1C9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A08D6-1E76-437A-A281-DF442359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223A9-C350-4CC2-83C3-C400AA32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403E0-9F12-494D-A8D3-2DB88842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2F63CC-E0FC-43AB-9711-937126B7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5B35ED-4E4A-4BE7-B4CB-FD642428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DECE65-3448-433C-A6AA-47CC0B792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0B53-2F0E-443D-AE9C-E1CE94ADC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61AA0A-2347-4F60-9F3C-6CA6D1AFA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B1FC6C-E1F9-48F5-8A82-DB8F0E5E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C2B89F6-C408-4858-A377-BD5C8B0F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2D4BE32-B332-4680-A47C-586BF2D3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A05A64-C3CB-452E-A149-B1E345BB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D2FDF4-B20D-41FD-B078-F26D18C3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80BD77F-0AC5-40D9-8002-D52C3BFF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25BFFD-FDA3-4047-8A8F-0AAE17E5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0C3EB6-5650-4E59-85B6-21E2A2D0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CBDF136-CAB8-4B8F-89BE-D1F02D9F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0163-9F2F-44A9-B922-60027AB58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906585-D86B-45F0-833D-51FA524C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539074-0183-4820-B74E-2289E5268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31A241E-A6AF-4E84-BDCB-1F06A8508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3AAA-3EE8-462E-8A96-0D7C7099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6A47-2E85-4A04-B12C-F59AB608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5588-B8ED-420D-993A-374E1BAE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78E8-6E38-42AD-BF35-E596DD33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8404-2FA9-4013-81CF-83F0234E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2D6B-E911-4F8F-952E-4EACC517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F548-C1AA-4E3E-A9A0-9DCE82E5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95DD-AB8C-4AC8-AC9D-1385F1AB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0018-75ED-4E63-B90F-953765F5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478D-E390-4C79-AC70-8DA902F7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1D4A-A916-4644-849B-0C40E0C07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D00B-6F91-4D5C-A2EB-D0C342B56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4E1AC-BC65-4ABB-95DC-BEEDE3D6C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DE072-82DC-461D-9448-8A02CAA7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3BF1C-95F8-49F2-9134-AEC0A4EB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4BE49-BF32-4D60-866A-197E79C0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BA3D4-EFBA-4FD2-9ECD-1B1A5BD0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5A66-849E-4DDB-8532-958B0AE2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418D2-C590-4055-B489-FFB8F141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CF4F2-5007-4221-AE4C-9500F4F5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0E68B-B311-4D50-80C8-CE6D26DF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6298E-DDF1-43B7-BFC6-8B20A30F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74B30-1304-4C21-B911-B8FFD7FD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A5CA2-281F-4702-A729-FEC70431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E9AE6-459B-45CD-BADF-296D4015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F8925-51A1-43CD-BA09-50E3D49FB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FAE47-EF4A-407B-8F7D-7CD0808E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C8165-5DDB-4317-9AA5-ECFF3088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F439-6D15-4251-A078-BAAA0823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DF179-8EA6-4B75-A6CB-BB9E2203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5AD6A-7143-4101-A6E1-11DBA62E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5A4D0-8A1C-47B9-9DBA-FC239C4A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82B11-9C6A-4E76-8B2F-D67B630A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76EFC-E85F-4832-89B2-59B4A85C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F40E8-CBA5-45DE-ABDB-D9DFBEC6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59A9C-83B7-4FEE-919B-AEB49A33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36638-B2EF-4C8B-BD91-DCAB7C1AD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40CB4-52D3-4687-ADE3-0EC9E9791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0D6AA-C4E8-429D-99F7-93DBA62DE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F228-3725-4A98-995E-3AF39208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358F5-B415-4D95-B782-838DC5A7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B6968-AA2D-4258-A623-CC405D1E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B81E3-C385-4A4A-A454-3F3155B9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8D93C-D6BA-48C5-BCEF-7D63ECD6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8D4B4-776C-479A-91BD-9F909993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1437B-24A6-4774-93F6-8D29BA28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B8931-4DA0-4E19-A2E3-B7E46EFD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EBCB1-D2E6-4BC9-A1E1-638F4EB4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02B68-1830-41AE-B9CD-59C50D9F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9FE59-6FD3-43E9-9728-C6DF085B0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AD8D-50DF-4AEC-9EDF-0EC77637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E9824-D78D-4368-BC15-147E17070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BAC17-A9A7-4C1F-98D7-92550E13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3CFCB-8C5D-4473-9BD0-0AFEE327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1BFAE-508A-48EF-BE79-8660F773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A737A-DAD6-47AF-A201-13D430AA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27285-DADA-4835-AAEB-294003D9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0D492-3313-46C6-AF46-2EB0C543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E6FB7-343D-4E1E-807D-6539B128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9D807-D6C6-4425-BDEF-D5536DA9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3447B-27DD-40AC-BF49-C39852E8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BA66-EF8C-47F3-9469-F97DD322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AE646-3772-4CD0-8AAE-ABFEEB2E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E9E5A-2256-4D46-9125-47669AAA9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084D9-8A55-46B2-8E2E-2A3659D23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FB0D9-CCAA-4C57-9EBA-42E4511EE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8B817-28D4-4D29-9711-A5CA0E85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391CA-B40D-4B8B-90CE-923A8907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DE8C5-A126-4F9D-BD74-621F89FC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B16BD-2781-440F-B4AF-B5219C07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30905-2123-4F92-B7C2-37AB81FB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945A8-AA00-4692-A4FC-7C3A4353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2EC6-504A-41F0-A2F7-56C76EB9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AA564-D6C0-497D-8C6C-BED808FE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8A2F7-8C16-4176-8CB4-E78F5BD2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B0B17-8198-4F5F-BB6D-66A3EACD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A8D3B-6814-4313-A8BD-A266781C9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4BAC8-1D2B-4EA0-BF9C-F7B798736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C6656-1F4C-48AC-9A18-99B84B6C1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49207-DBB0-47CC-9D76-2C1BEDD3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BA1FF-F84F-45F2-86E4-DB1B2FC6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0ACE4-0967-4CC8-AD34-BA275704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2FCDB-20B3-4420-97A0-F1BF1574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7E94-EA07-482A-A19D-D84D382F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67BD6-620F-44D6-A465-FD03A03E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03DBC-F6B9-4E19-8F5F-BCDDCDDE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B5CD4-A5DA-41BC-A5B5-D221653D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75C83-DD9D-40B8-8D43-2B66FC7B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AD760-13D3-477D-9A13-81836A13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9AD76-0F5C-438F-A2C0-7C4C4056F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363C5-FC1F-407A-AC15-214BD6F95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25ED0-267E-4322-816F-815BB5B5D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38D8B9-35D2-4D7F-8254-F0DA7048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DCCA4-BA35-4843-88A8-13F833FE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95E1-A6BE-45C2-8C36-B9A2A6566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0F49-6FD5-44DB-B842-20557F2308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1797-2A57-417E-B979-1C82CF1FC7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5D1C-D87E-46C3-9525-2195A84DD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B416-BA81-4B7A-80B7-447F932A709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0295-89D1-489D-9A7C-A1B351E9A63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67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B665-154D-4D21-9A3E-B495163CE7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212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6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ftr" idx="17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8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6C05-8CD0-402F-9DE4-AA3662D247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6332-C8A6-4734-9327-C056B2519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44F9-9D61-40DB-B918-A0271122A83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05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15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2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1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32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35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36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7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38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6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5778-6CD3-4A06-BC38-ACEC995A07D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89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93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8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99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03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8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i.edu/weather/todo/todo.html" TargetMode="External"/><Relationship Id="rId3" Type="http://schemas.openxmlformats.org/officeDocument/2006/relationships/hyperlink" Target="http://www.fi.edu/weather/todo/todo.html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afari420/?a=60966&amp;ch=7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at’s the Weather Like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d for a Life Skills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es 2-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de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aphing temperatu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vide into 2 group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ph temperature using a line graph format with assistance from teacher/assistan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recas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ing the information from the maps you have, forecast where the clouds will be in three day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w them in their new positions on the map of the United Sta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ee days from the time you complete this activity watch the news. Look to see where the clouds actually are to check your answ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eather vocabulary word sor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ivity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a set of cards with weather words; match words by opposites (hot/cold, dry/wet, etc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ivity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x in cards with familiar words (colors, number words, etc).  Sort cards into 2 categories: weather and o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mmunity Build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ide into 2 groups with a teacher/assistant with each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chart paper, brainstorm words that describe weather with adult writing the words on the ch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ng groups together and compare list weather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inding weather inform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 resources that will give weather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spaper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TV new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eather Chan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k students how they find out about the weather at 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2438280" y="2286000"/>
            <a:ext cx="1559160" cy="137160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3"/>
          <a:stretch/>
        </p:blipFill>
        <p:spPr>
          <a:xfrm>
            <a:off x="4572000" y="3657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e can…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 daily weather information through observ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newspaper to locate weather conditions and predi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t the weather conditions for one mon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 what conditions might occ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 4 kinds of wea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572000" y="1523880"/>
            <a:ext cx="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80880" y="388620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bserving the weath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weather station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www.fi.edu/weather/todo/todo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n gau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ther v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ther jour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eather Jour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566640" y="1752480"/>
          <a:ext cx="8001000" cy="437688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85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peratur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cipitatio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d directio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xtreme Weath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understorm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ornado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9900"/>
                </a:solidFill>
                <a:uFillTx/>
                <a:latin typeface="Arial"/>
                <a:hlinkClick r:id="rId1"/>
              </a:rPr>
              <a:t>Hurricanes</a:t>
            </a:r>
            <a:br>
              <a:rPr sz="3100"/>
            </a:br>
            <a:r>
              <a:rPr b="0" lang="en-US" sz="3100" spc="-1" strike="noStrike" u="sng">
                <a:solidFill>
                  <a:srgbClr val="999900"/>
                </a:solidFill>
                <a:uFillTx/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51055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safari420/SAFARI/montage/play.php?frompage=play&amp;keyindex=3653&amp;location=lo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5562720" y="1828800"/>
            <a:ext cx="2081160" cy="31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ng Weath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1278000" y="2019240"/>
          <a:ext cx="6011640" cy="3089160"/>
        </p:xfrm>
        <a:graphic>
          <a:graphicData uri="http://schemas.openxmlformats.org/drawingml/2006/table">
            <a:tbl>
              <a:tblPr/>
              <a:tblGrid>
                <a:gridCol w="1202040"/>
                <a:gridCol w="1202400"/>
                <a:gridCol w="1202040"/>
                <a:gridCol w="1202400"/>
                <a:gridCol w="1202760"/>
              </a:tblGrid>
              <a:tr h="61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nn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oud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n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3:55:19Z</dcterms:created>
  <dc:creator>training123</dc:creator>
  <dc:description/>
  <dc:language>en-US</dc:language>
  <cp:lastModifiedBy>training123</cp:lastModifiedBy>
  <dcterms:modified xsi:type="dcterms:W3CDTF">2009-05-07T18:50:28Z</dcterms:modified>
  <cp:revision>6</cp:revision>
  <dc:subject/>
  <dc:title>What’s the Weather Like?</dc:title>
</cp:coreProperties>
</file>