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06C-812C-4006-B4ED-B140D4F9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841-1A44-4785-9C99-260757C5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69459-0A77-4036-BC4D-925FDD99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85B77-26EB-4E78-ACF6-BB4818C1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4B120-DD61-493C-A12E-9215DA07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008E7-E847-4B6F-86AA-38A42ACA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AB420-F059-4854-BE0C-C2647D62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C085C-119B-49EA-B115-B7A2330A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7EDFE-2C8F-4783-A47D-A03FE247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B03A8-42BD-4930-ABB4-96819C8F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F556A-F346-4258-A093-05506510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58AE7-BDA9-4B97-A8EC-19F145F8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E73-47BD-443C-B99C-5A628562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3390F-9FFE-4A4E-AB3B-C850D3B7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69F48-FE9F-4D76-88B4-76C6534B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2BA50-A0F2-4ED7-9A95-FB9F9448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C3CED-4CD0-4FA1-8EA2-E76B8C90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899AD-4920-44BA-BAFF-270D5F3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54A60-2914-4149-8CA9-28D40E4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52EF0-E407-4F78-82F9-F2F88CCC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B2556-9AFD-4CA6-A4F9-B02B060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2E6F4-2E9D-4B8C-B3F4-C210F6D4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18B9C-9CA0-4C74-AD1C-2B26446C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3CE-0BED-4670-AFFB-5D449E09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4A80E-D3D4-4D67-9D5C-C578260D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558BEE-2052-4FFA-BBAB-0B62B353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FA0DFB-83C1-4A72-B44E-FE08354D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5E2D3B-AF4F-4C79-A90E-E80D95D0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37DCBF-831F-4B26-A63A-06BA39DA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78FA87-7F60-4502-827F-B4085490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C9FDC7-E0A7-4F4B-809B-76F5450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A30E31-74B7-4477-860B-9E46559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069527-BDEE-4165-8E9F-7C4FC01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DC062A-D025-425F-9B2E-A909ED7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9012-E14E-441B-8EDC-563C70F2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36A5B7-541B-4A47-82FF-D3976CC2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B092A7-0E54-4766-9FFB-48855691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2F4B36-6B79-463B-9BC6-5A860172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E94E-4604-47DA-A8A7-24A8DC36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0974-7EB2-4910-8AA1-6CEB629A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7145-80CF-4D71-BEB2-9EADF381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5F38-2F01-49D3-B192-FE25B31A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09B3-CA32-4FBD-B512-8B64AA6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B6A1-6354-471B-9D2D-EB3264B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7EF-3392-4512-BD5D-AC22B5F8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4E3-2B85-4C1D-BEC4-48500118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1CF4-6278-49E7-9E1B-8C1E850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F459-7DD8-4970-85E9-73FD4E2C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76A4-D50A-4F61-8D7B-397FC6C6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6CE6-C3D7-44FD-A46A-1B70CD26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E4FD-1289-4AF2-A0F0-3399F057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151E-E2CC-4491-B834-9C62BCC5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B3EBE-4CA4-4D28-9932-C9581FD9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1A04-BF55-4319-B962-89B61219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A1C4-7CE5-4FDA-978F-3ED4B1F2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383-1DD5-40CC-8A8B-333C25F0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DAFF-AAFE-43F1-8E0B-878EDB11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7F0F-C8C8-4CDD-BAB3-C209168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DAD0-A7BE-484B-9B3E-57C3CD4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513B-6940-4F08-A38E-8098E593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7C18A-ED1F-4AA1-B207-0C3B0DA6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1F00-EFD2-4DA5-929B-EA9E1DC3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E8D0-0E55-4CA9-8CB7-C2499473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5614-F5F8-48E8-9293-E62DF633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551C-F555-4308-AAC1-6DADD22E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CAE10-4EC0-4829-B795-0C8AF9A3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DED-C148-4CE8-B290-E13F9904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28000-24D7-4106-B12F-5BC4D928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9969-3BA6-4ABC-A946-F2BA9755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79C0-4942-4D47-A4B7-6458AED4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46D5-EFF9-4226-A1BD-CD40A84D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A3A51-EB69-4786-8994-7523166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E8315-07E6-4784-9176-360050C5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2567-A280-4056-AB53-2782DFD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5ECE-FCA6-4975-945E-BC869449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0166-1325-4E63-A059-7EF39AA6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26D6B-BFEE-4D48-ABA4-EF1BC3C9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EE0-CC5E-434A-BEFE-16DA0F70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C1D5-898B-4E33-9ACC-947D2200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8910-E6AD-43EE-ACB1-ACC0426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8F889-F028-47B1-8219-D868401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2934-0354-4D15-B5E2-4A4AA27B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F4B25-1225-4953-913B-55ED6AC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B457-4189-4FA2-8231-6A456AE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75D0-683C-44E1-9831-6BDD0E0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35E3-54FC-45C7-B446-EC69E13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4311E-8B79-4530-B4D3-8B4E1512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C9515-0D4F-48B1-876A-B4DFD43A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585-6194-4B21-931C-8A6C942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8ED92-3D46-46C8-824C-6F249EC5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2A19F-06FB-42F7-9921-80AFC2D2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0C765-4B46-4376-80B0-D71D3664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32BB-9FD0-47D6-A70B-8F795C85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E0222-6F71-4097-8F73-D3787B2A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58B3-C62B-4445-BD3F-250C1F95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F8AC-C10E-4179-960C-6C49E13F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F9163-EB90-4741-BD1C-78050146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A547-DD04-4E7E-8466-B762D68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2EDE4-86F0-4717-A1C8-3F3DAFD1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E1B-1F43-4A6B-867E-CA565A72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C339F-0C74-4D20-B8AE-E89B4A8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00142-5425-45A4-8A86-84DBA5B6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20AFA-7172-44B0-9D44-C3C27873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F15DC-9735-4F5A-B822-734814E9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32FA7-C6D3-4E5A-9FAE-DCA1B845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C73EB-3927-4C14-A68D-AF29F1ED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4D39F-C3EB-4627-8B9C-DBA9B1B2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E66F6-184D-46A0-8E76-8D51E236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17406-3612-415F-93D3-50CCB5E8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31963-13E8-4092-B6A3-5FE01280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6F5-2983-4328-A727-3AB08F8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602DD-30B1-4158-871A-18CDE73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A792B-F380-40A0-A119-1D249EAD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3E772-C880-4D05-A47E-6C595820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D4AC0-598D-4F09-B9C6-DCBA6DE8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49CDF-F104-4483-9E88-6EAC407C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D3668-49D3-4986-AB5E-D9816A13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18055-F227-47EA-A5F3-44F623A6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6003A-5CAF-487B-9323-6E9CF03F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77369-A81B-435D-BA31-AD71337D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11207-2B8F-4A62-92ED-AA2580B9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E28-51A7-4A69-9157-DB90D0C8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B0DA8-71B1-421B-A313-1D04DC84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F202-D400-45FD-92C6-51D807E0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3F5F-ADEA-4331-BAC8-2FE3ABE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48EC1-9962-417A-9CF7-502B349F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39B7C-8429-4925-8461-943515BD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8D9A3-E9D8-4005-8FCB-AD65D0BF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125FB-489C-424B-8C6C-3331AD53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2B88A-9CBF-425A-9EED-A17FCBBB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A016A-1969-435B-A91D-92E81D9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8E928-E04E-45B1-BED3-ED9B2464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B2B3-A2C3-42F2-A2CE-CB6E80BA6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6C31-C25F-46A7-8D98-49AA9992A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2BE0-8324-4A54-9224-B6A0C2B99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5C91-20CD-4F15-9BFA-1A9BED409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EF74-3728-41F0-9E32-2973772DAE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8B73-6E3C-4AD9-BF48-947F0BB219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6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2F9B-118A-4A76-95B1-A63E1CA33A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1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9153-8642-4C4C-8970-ACE313D8B2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A51F-5207-45AF-8593-CE5EE11A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1F80-6B16-44CE-AFAD-3810E8B6AB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8188-2D8E-42F0-9CE9-C413ACABA2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.edu/weather/todo/todo.html" TargetMode="External"/><Relationship Id="rId3" Type="http://schemas.openxmlformats.org/officeDocument/2006/relationships/hyperlink" Target="http://www.fi.edu/weather/todo/todo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fari420/?a=60966&amp;ch=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’s the Weather Lik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for a Life Skill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s 2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ing tempera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into 2 group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temperature using a line graph format with assistance from teacher/assista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information from the maps you have, forecast where the clouds will be in three da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m in their new positions on the map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days from the time you complete this activity watch the news. Look to see where the clouds actually are to check your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 vocabulary word s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set of cards with weather words; match words by opposites (hot/cold, dry/wet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 in cards with familiar words (colors, number words, etc).  Sort cards into 2 categories: weather and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2 groups with a teacher/assistant with each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chart paper, brainstorm words that describe weather with adult writing the words on th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groups together and compare list wea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nding weather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resources that will give weathe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pape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TV ne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ath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students how they find out about the weather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1559160" cy="1371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5720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 can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daily weather information through 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newspaper to locate weather conditions and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 the weather conditions for one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what conditions might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4 kinds of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15238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serving th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eather station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fi.edu/weather/todo/todo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 ga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jour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ather Jour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66640" y="1752480"/>
          <a:ext cx="8001000" cy="43768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ipit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 direc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treme Wea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urricanes</a:t>
            </a:r>
            <a:br>
              <a:rPr sz="3100"/>
            </a:b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safari420/SAFARI/montage/play.php?frompage=play&amp;keyindex=3653&amp;location=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Wea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278000" y="2019240"/>
          <a:ext cx="6011640" cy="3089160"/>
        </p:xfrm>
        <a:graphic>
          <a:graphicData uri="http://schemas.openxmlformats.org/drawingml/2006/table">
            <a:tbl>
              <a:tblPr/>
              <a:tblGrid>
                <a:gridCol w="1202040"/>
                <a:gridCol w="1202400"/>
                <a:gridCol w="1202040"/>
                <a:gridCol w="1202400"/>
                <a:gridCol w="1202760"/>
              </a:tblGrid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19Z</dcterms:created>
  <dc:creator>training123</dc:creator>
  <dc:description/>
  <dc:language>en-US</dc:language>
  <cp:lastModifiedBy>training123</cp:lastModifiedBy>
  <dcterms:modified xsi:type="dcterms:W3CDTF">2009-05-07T18:50:28Z</dcterms:modified>
  <cp:revision>6</cp:revision>
  <dc:subject/>
  <dc:title>What’s the Weather Like?</dc:title>
</cp:coreProperties>
</file>