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279-5BBB-40EF-9309-03335767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298-DC98-4BED-B2AE-433D8F49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C72CD-4C8D-428C-80F4-693FD124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9D9C9-CA24-47A3-9CB2-9FF5BB8E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32805-8CFF-4F43-824B-FA66CDD7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097E2-E861-4403-8290-7CE2C17B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438B3-6E8A-42CF-894A-06537949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0BFA1-24DE-4CF3-A50C-F9CDB774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6EBE5-3047-4BBB-8951-21B94A08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AB372-352F-464A-9F9E-1FDD465C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F2922-093A-453B-9F09-69D76245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698D8-3242-4246-9A94-4B31621A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152-28E3-47EB-9DB1-3ED39BB9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7302F-F9A1-479D-8DFD-015738ED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EF635-25E0-4C26-9EEA-1C314C4D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4DEE6-B1C7-46E4-A48C-7B38D865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D8D92-54DB-43F8-8C87-280D7DD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904ED-F689-4578-94AB-DA854BF0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8CD78-BDEC-4CC7-8ABC-2E41AAAC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AC38C-CAA2-4973-9D34-FB6D299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5B03E-3D87-4571-A689-42D52F4A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88C2A-8D1F-4AD2-86D3-C74E32FD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D4A3F-E917-4AC6-BD07-E127B3CB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574-71E0-476F-A0B6-E26AEF0F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3CCB4-0A13-4D3E-BE05-31BDACE5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DB5DD1-152F-4DDC-9692-6E0F2CA6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9B41A6-EABC-4E63-974B-D66CA834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62FA2D-AD5B-4D8C-9AFC-4F68335F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14F6E8-4047-4800-B87F-3DFAF72D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D6911A-129E-4C3B-9CFF-BBD092BE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E58475-ABC4-4BFC-B608-ABF1A91B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137CA7-2739-41E3-87FD-0E144DB0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7DEF33-F04E-42CD-BDB1-7C26E94C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D637E5-B4AC-4D10-80D3-B8B10C61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0D5F-B77E-4EBD-B7D3-6886D85E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875AEB-8125-4CC3-B7EA-2603BBA1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5EB806-5B1C-469D-A7A8-DD107418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D24221-2BB4-4F53-B72C-7E2DBF86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18D7-0282-4E9A-988A-77A2B385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5FE7-B91B-4F78-9525-0A5EC312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D7EC-40E9-4DE4-9AA2-585DA553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94A8-5974-43D6-B107-C4938FCF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C8D1-9FAB-40B0-A43B-75D13C7B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EAC3-D296-4E77-84DE-7BF6D72D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83E-597C-446B-9EAA-F1DF5E5A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1D85-8BF5-4070-AC3F-49CAC54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238E-CBB2-4B45-A495-DBB117BB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00A6-B265-4019-9CE0-92787EF6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CC5B-B2AA-47BB-8EBB-11F33CEE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ABD1-A4B0-4A78-B7EA-455B9884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DA24-9C9E-41C5-8092-D87E2E55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BA73-4F99-4D70-88D2-DAC94B8D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F4668-3290-4F0C-9B9B-B39098F0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927A-9950-4364-A687-1D6B8057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5AC52-3124-4C5A-A610-9FDB35F6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5A2-1C6D-48B1-9369-D32AEDC3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CE8C-446E-408E-BAD8-D2905ABB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F1A7D-C33F-4B8E-983A-64C42F8C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F3101-8E2F-4C54-B1B8-EC9CF74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9B15-B584-40B2-8F03-5DECBBAD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A876-8A5E-4D5E-8F1A-62B86F30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B5C5-EE55-4DD8-822D-F09944DC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81FC-8ECF-497F-ADA8-789CDF08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0B0F9-7A69-4B4F-BAEC-7AA9611D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6D1CF-5231-4F1C-AC86-E0C6EF95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3C4F-89BE-4DF5-857A-F124A252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674-5930-46AC-8E56-2C7F5B99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B92D-7852-4DD1-BC21-9B63604A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3A008-822B-470B-AE3E-84D287E8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2104B-E5AF-4856-BC29-5EC798E4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5D36-5AEF-47C8-BAFF-0A6890BC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B896-42FB-491E-AD2B-4079AE47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47010-0C27-4B33-8364-01100222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1349-F2F9-4835-A0A3-AF04613F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CE2E4-DDD9-45F6-913F-915E3D89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77563-C51B-4E64-B618-1D74EDEF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8FC77-56AD-493F-B087-42C36004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45D-467E-42BD-AA37-E7F49D3D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71530-B3C0-4CA1-9582-BB3A71B2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11598-2B0D-4111-8576-84951D1C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2DEAE-C433-478E-B860-DACB6132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5F556-EBC5-4E65-8934-10135870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B6C8A-4FC8-45B1-B950-5EA0E88C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283C-761E-4BEE-BE4F-D027C8EE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A16C1-4B13-4788-8265-2E5119B9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6E727-7E0F-4286-8170-B75F0B7E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2BEC-7CA9-48A1-B858-C37B0D93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07A8C-EECC-4FCB-8F24-17F31710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217-D814-4A5E-A884-D3045288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73D8E-1A42-4196-BF9F-4A6B9682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0EAF8-0311-4CBB-8ABD-1B42CF24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2CD21-064E-4CC9-9DF7-2D53A0AC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F797-D775-408F-A2DC-4101719E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2D306-2A85-4F27-B885-86CDF67C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22F47-1D69-49AD-B054-BF4AF79E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044A6-D179-4020-A6B8-D7FC225E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77A0A-A8C1-4495-8EB8-474A97D6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C38E7-8269-4815-AC60-A79CBF00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B843F-35E7-4DA6-8252-AD5F4783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C0B-C284-41A6-870F-73FF5611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BB758-99E2-485C-9DC9-8736E826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A0282-E93E-45F6-9536-7C1925E4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7E4FC-44DA-4B6B-B9DE-19692C24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75B67-8813-4BC2-BDF1-938F1046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F36DF-E558-46CA-AB82-752575C2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93BBE-D2A9-4A7D-ABF6-3422141E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534CD-65EA-47C3-8D68-14CAC75E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FE997-432F-4F57-AA10-0EF9CCAF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490E2-CE05-410B-8B74-4445FA7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2DC3D-AE6A-40D1-A621-9AD39283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401-AF03-45F4-8080-E36E8E25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6ED4C-55A1-40F6-9DF9-C16A79D7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4B6C0-E3F5-4598-AF30-639CE050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4C720-F001-4229-87C8-84AC6630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E3A1D-BBB6-4260-82CA-B7FB72AA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B5F99-B68B-42CD-9CD1-D885EB5A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647CA-2189-4F59-921B-80CA78CB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216B4-83FD-486C-BE0D-5FB9E229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E97D4-5BD5-4F5E-9D97-4539E8EA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A6341-97E0-42C4-B8CD-3D2D07FC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4BD19-CF71-41D5-B76E-C1F4CFAC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9B9-BA82-4F76-BF08-0ADE6C33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627FA-F402-4725-8953-104A5D0C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522A8-99CE-4277-A773-1FA47CA0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A9413-5071-46A2-8FE2-FC48E37F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C7A69-8B38-40F1-8659-7061377A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AF59-A097-4341-BF0B-01EAF3FC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50B8B-C8BB-499F-92DC-0E729972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2ACA0-C5D6-4A51-93C8-9BB12702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84EF3-EB56-4504-B576-EBC22A9C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A9C0E-7410-48D9-BF31-C09A7726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56C76-CCE6-49CE-A447-8A761E80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AC96-EFD1-4F75-810F-172EC753D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B7E5-2B7B-4E56-B0A8-B10F5F5CC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0B93-BDFD-4D34-9210-D9037187C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27BD-2DD1-4000-A136-DF871B8DE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A460-E315-4BC3-8714-C13CCF2D6A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3B18-2976-45C3-84DC-F021EFFD71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6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82B2-3BFF-4F16-BE48-B89B32D579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1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0EB7-D3C4-4A0F-9AAA-2BAF1CD380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AB9D-6D25-4288-9499-2C568DE7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DEB6-351C-4142-BAF4-A3ED8E302F6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AB03-C629-48BF-87C4-9B965C35BB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8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9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.edu/weather/todo/todo.html" TargetMode="External"/><Relationship Id="rId3" Type="http://schemas.openxmlformats.org/officeDocument/2006/relationships/hyperlink" Target="http://www.fi.edu/weather/todo/todo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afari420/?a=60966&amp;ch=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’s the Weather Lik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for a Life Skills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s 2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ing tempera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into 2 group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temperature using a line graph format with assistance from teacher/assista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e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the information from the maps you have, forecast where the clouds will be in three day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m in their new positions on the map of the United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days from the time you complete this activity watch the news. Look to see where the clouds actually are to check your ans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 vocabulary word s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set of cards with weather words; match words by opposites (hot/cold, dry/wet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 in cards with familiar words (colors, number words, etc).  Sort cards into 2 categories: weather and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nto 2 groups with a teacher/assistant with each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chart paper, brainstorm words that describe weather with adult writing the words on th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groups together and compare list weather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nding weather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resources that will give weathe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pape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TV ne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ather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students how they find out about the weather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1559160" cy="1371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457200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 can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daily weather information through 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newspaper to locate weather conditions and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 the weather conditions for one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what conditions might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4 kinds of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15238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38862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serving th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eather station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fi.edu/weather/todo/todo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 ga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v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jour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ather Jour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66640" y="1752480"/>
          <a:ext cx="8001000" cy="43768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85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ipit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 direc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treme Wea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urricanes</a:t>
            </a:r>
            <a:br>
              <a:rPr sz="3100"/>
            </a:b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safari420/SAFARI/montage/play.php?frompage=play&amp;keyindex=3653&amp;location=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5562720" y="18288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Weat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278000" y="2019240"/>
          <a:ext cx="6011640" cy="3089160"/>
        </p:xfrm>
        <a:graphic>
          <a:graphicData uri="http://schemas.openxmlformats.org/drawingml/2006/table">
            <a:tbl>
              <a:tblPr/>
              <a:tblGrid>
                <a:gridCol w="1202040"/>
                <a:gridCol w="1202400"/>
                <a:gridCol w="1202040"/>
                <a:gridCol w="1202400"/>
                <a:gridCol w="1202760"/>
              </a:tblGrid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19Z</dcterms:created>
  <dc:creator>training123</dc:creator>
  <dc:description/>
  <dc:language>en-US</dc:language>
  <cp:lastModifiedBy>training123</cp:lastModifiedBy>
  <dcterms:modified xsi:type="dcterms:W3CDTF">2009-05-07T18:50:28Z</dcterms:modified>
  <cp:revision>6</cp:revision>
  <dc:subject/>
  <dc:title>What’s the Weather Like?</dc:title>
</cp:coreProperties>
</file>