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jpeg" ContentType="image/jpeg"/>
  <Override PartName="/ppt/media/image6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D8F2-1059-469E-A103-8632B9EA3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05BC-224D-440D-89FE-022C19E8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02692-D7DE-4DF9-93AF-07801E0F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92D8D-C29F-4D0A-BAA3-632E8144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DD35D-206A-44EE-ADB6-829FC336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70319-5EC2-4A06-8D0C-F5EEC364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80E60-B35D-4616-86FB-9D373E20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9F38D-3AB0-40F6-893F-A9A7449A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C8C62-74A1-45B8-88EC-AC87F79B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7A12F-06F4-4811-85DD-DECABF938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90057-2055-44FB-8364-9704369FC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46FF7-9DCE-4CF2-B870-E106822CA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77AC-8EC3-4353-83C6-A57422B3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335E23-8C4D-4341-9CD1-02C5D472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C093B-9055-4F2E-94D8-345071E5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76D753-309E-4CE6-A30E-528D2347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98DFE-6F07-49B0-9DA8-E793E429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F335D-B9D1-4261-ABB8-862FCD81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68A666-AD69-40EB-80B3-4AB3DE6F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4B34D-70A8-4485-B915-CCF9DE1F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B094C-62A0-4966-A402-8F9AEC8B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0A572-BA62-44DA-B2DD-BB5F8C7E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981238-1AF0-44AB-9326-D132F5FD4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0E0C-4C4D-4824-9825-463BDC00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61F35-5775-4270-8A62-074C77B1E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1FAFBA-737E-4254-9E9B-715184168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516212-D917-458A-B001-C2FFB399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C3BDB5-5BA6-4E7A-A771-A3E40B3A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F5E30B3-B459-4189-95E4-57CBADAE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00C324-0527-4DC0-8004-0A063F60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E6AB335-D2CC-4F8C-97E9-4F711B6E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2E90D3-F408-4AAE-A46B-2382346F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743BF4-5B22-4196-89DD-56D85A2C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DDF743-CE88-402B-9DAB-C6F8BF3D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5313-2F2A-4D8E-9940-5EBE6802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5501A7-144D-4880-9E61-5B396533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028BDE-4F26-4686-91D8-EFE005800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AC74C34-C104-4D9C-A807-4D2CBFC12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B195-638C-4D17-9AFD-DE819FB0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CA68-55A3-49E9-B310-53F7F583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DB16-6DA5-4A9E-B440-79D0F2CD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18A4-C7E6-42F2-82D8-65F9F4E9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4730-6B71-44EF-B1A7-A8A530BD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02E8-9986-4AC6-9845-996641C9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D8BA-A3DC-47CA-8636-FB212D23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9318-9520-4143-83D2-A13ECE81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E6B7-C9B5-456D-BDB1-6975BEBE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3CC2-647C-4BC8-8B3A-3E1CD9C4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D65F-E886-46BD-A120-49A717DEF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FCCD-0543-4CFC-BD9E-7B625485D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36E02-976B-451E-B3EB-CF7C0C73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4C9A9-F28E-4324-B191-A16B4C15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7EB94-83AA-4FC4-83D7-1BF2BCA8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23281-D2F4-4519-B9FB-8891F9E7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8FB26-3A0B-40C9-89A7-0311CF79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FCAD-835F-4524-BF20-2E0AAC2E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79239-14D4-4E43-BF12-3559BC42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5A25C-F76D-4327-BF72-8F1F1C2D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18919-9FF7-428F-9EC0-9051643B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2C4DC-319D-4358-A68B-9C865A97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62697-EDBD-4111-8C09-5F919D77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F7AE0-F5B4-4AA7-BCF3-8D6D2E83E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35EFA-E9A6-4449-9B23-6E93E4231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3434A-99B4-4913-8083-A3F466C1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F989D-979F-4010-836F-95B7FF92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C5556-58AC-4A70-AA32-3C046553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ACD5-5A7E-402A-8F9D-A517F059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CF2E6-5F07-4812-A84B-2AF4B174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E6BC5-B35D-4B22-837E-31887F90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F5A40-CC99-4990-A1A0-4E1A933B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5AB17-8C6B-4F02-9E32-86663629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0B941-1823-4B51-A8A1-1E723CF0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F097B-3E41-48EA-819D-113DBBAB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619DA-5C19-4DC2-996F-3734AFB7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781FD-2F88-4DA2-86BC-E8459E857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1B038-C20E-4A59-99CB-16AAEF052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F53F6-7E08-4FC5-AAED-6FB878B07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AA98-5E1E-44AA-A06A-9C82B100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06BC1-A916-4DD9-94A3-ED695B2E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370BA-A6D6-4703-9F4C-5A365232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B0FCF-BA9A-4D40-A90F-45943651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C2E77-9AAF-4999-8262-6808628E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24220-C3A1-4FFB-9A24-7E27B9FB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44FDC-CE18-4FA7-B0DB-73921CEB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33873-6D90-4E1B-AA18-FBED756C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8F19D-F375-4F27-9B58-6E057F52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08CB6-F17E-4D30-B1D4-9D494A5B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D8765-5AB6-4B9F-BDD2-51E5ED6AE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C0B2-CD79-401A-BA86-11C5F0B0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FFD4D-003D-4F79-8435-5A4E930AE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F8F47-EEDA-48EE-A3B9-5108F13F7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7DBCC-2481-40F3-88B3-293EA95A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994AE-F81F-4879-8BFF-6B4232F7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85908-CB82-46BE-AAF7-7A1283E2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7179F-EF4B-4F10-8437-695A45A5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70C09-2BBB-4C0E-9F34-1BD24800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8D1A7-B197-40AA-81BF-39308712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08D01-5B32-4B21-BD0A-22378129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52808-09A5-4E41-AEDD-6FAE5067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8B00-0691-474B-8832-7BB5F9E6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2D4ED-FA2A-4BDF-861A-B603E030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51292-FAE5-4EB1-8117-535E2893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6E814-6D73-491A-95AD-182D77EDC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9F6DC-0FCD-4FD0-9A12-88C60BF3B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E3053-6F05-43CD-9FAE-B3CF55A1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7B0FA-B0D3-442D-B501-C0E24214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D3012-0009-4E4C-899E-2EB17125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126C1-EEC4-493B-B2DF-CAFA60BB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998F4-A89F-4713-AD19-71501AA6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DA867-EAEE-4A66-804C-0E7F19FE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FC6A-C687-48B5-9A2A-0B57DD79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840BF-EF1E-4529-97DA-4058199F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9268D-87D7-44AB-B8CE-1B251683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D4B35-E03F-4FFA-B922-2F2180C0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199D9-4D9E-4BE6-BC47-EBB45215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85CAC-E3CF-4C2F-87C3-DCF5CEFB5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92947-B78D-4439-8490-FA9C20EE6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33B0A-0238-496D-AFF6-8871E7C1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65109-558E-479B-BC78-0A493CC3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BDE81-37D3-4DAF-81E2-85F4E4B7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F22D5-1F29-4E5B-A713-DBC00B70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A0D7-AF18-4CC8-9082-D8324C47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0C04A-C9A7-43F7-B1AC-70D08B2D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733BF-DFAD-4E18-B3D0-12437FDC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162BD-9375-4410-B34D-9349B9AE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13676-8466-463B-98CD-73C01EA0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26135-E710-425C-99F2-B027464D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DA372-9528-4288-8636-A2A21FBFF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FC2AE-74E8-4CEC-AAAF-D7CC1C5BC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E4038-35DA-48C3-A1D9-B9D01AF9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CB636-E797-410A-8D1C-62495F1A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7547A-0AEE-446D-A710-A5DED072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7D6C-82F7-4B06-A366-47F8949FA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97AF-B39F-40E8-A31C-D154FA2F8D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5A74-4C85-4D99-A25B-97279E46D5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5161-A603-4134-BC38-642B2614C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ED67-25C7-4424-9AB5-2908FC211DE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F1E7-1568-41BE-9F5B-55BB945C577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67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CA32-750F-4267-B2F9-5FF770B1EC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212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6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17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8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6960-6B4A-43BA-B40D-85932C84BC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0806-1908-4D99-81C4-EDC2430A6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E6E7-5E8C-45F6-A971-8A69C327E8A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05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15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1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32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35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36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38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6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C9B0-09EF-47C9-9EAD-6361D1BC40E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89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93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8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99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03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8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i.edu/weather/todo/todo.html" TargetMode="External"/><Relationship Id="rId3" Type="http://schemas.openxmlformats.org/officeDocument/2006/relationships/hyperlink" Target="http://www.fi.edu/weather/todo/todo.html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afari420/?a=60966&amp;ch=7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at’s the Weather Like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d for a Life Skills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es 2-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de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aphing temperatu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vide into 2 group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ph temperature using a line graph format with assistance from teacher/assista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recas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ing the information from the maps you have, forecast where the clouds will be in three day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w them in their new positions on the map of the United Sta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ee days from the time you complete this activity watch the news. Look to see where the clouds actually are to check your answ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eather vocabulary word sor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vity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a set of cards with weather words; match words by opposites (hot/cold, dry/wet, et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vity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x in cards with familiar words (colors, number words, etc).  Sort cards into 2 categories: weather and o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mmunity Build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ide into 2 groups with a teacher/assistant with each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chart paper, brainstorm words that describe weather with adult writing the words on the ch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ng groups together and compare list weather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inding weather inform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 resources that will give weather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spaper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TV new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eather Cha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k students how they find out about the weather at 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2438280" y="2286000"/>
            <a:ext cx="1559160" cy="137160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3"/>
          <a:stretch/>
        </p:blipFill>
        <p:spPr>
          <a:xfrm>
            <a:off x="4572000" y="3657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e can…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 daily weather information through observ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newspaper to locate weather conditions and predi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t the weather conditions for one 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 what conditions might occ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 4 kinds of we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572000" y="152388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80880" y="388620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bserving the weath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weather station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ww.fi.edu/weather/todo/todo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n gau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ther v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ther jour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eather Jour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566640" y="1752480"/>
          <a:ext cx="8001000" cy="437688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85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peratur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cipitatio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d directio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xtreme Weath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understorm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ornado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Hurricanes</a:t>
            </a:r>
            <a:br>
              <a:rPr sz="3100"/>
            </a:br>
            <a:r>
              <a:rPr b="0" lang="en-US" sz="3100" spc="-1" strike="noStrike" u="sng">
                <a:solidFill>
                  <a:srgbClr val="999900"/>
                </a:solidFill>
                <a:uFillTx/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51055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safari420/SAFARI/montage/play.php?frompage=play&amp;keyindex=3653&amp;location=lo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5562720" y="1828800"/>
            <a:ext cx="2081160" cy="31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ng Weath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1278000" y="2019240"/>
          <a:ext cx="6011640" cy="3089160"/>
        </p:xfrm>
        <a:graphic>
          <a:graphicData uri="http://schemas.openxmlformats.org/drawingml/2006/table">
            <a:tbl>
              <a:tblPr/>
              <a:tblGrid>
                <a:gridCol w="1202040"/>
                <a:gridCol w="1202400"/>
                <a:gridCol w="1202040"/>
                <a:gridCol w="1202400"/>
                <a:gridCol w="1202760"/>
              </a:tblGrid>
              <a:tr h="61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nn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oud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n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3:55:19Z</dcterms:created>
  <dc:creator>training123</dc:creator>
  <dc:description/>
  <dc:language>en-US</dc:language>
  <cp:lastModifiedBy>training123</cp:lastModifiedBy>
  <dcterms:modified xsi:type="dcterms:W3CDTF">2009-05-07T18:50:28Z</dcterms:modified>
  <cp:revision>6</cp:revision>
  <dc:subject/>
  <dc:title>What’s the Weather Like?</dc:title>
</cp:coreProperties>
</file>