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AC4-42DA-4E3D-9917-5C1810EE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87A-DC84-40A5-9315-67BACAD4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ABB7D-D400-4451-99D0-AA799ED1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7810B-AA03-474F-95FE-9681DE2E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C901C-67F7-4FC3-94FA-E863AD66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78F75-4071-4FBE-B1E5-20F293F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A4ADC-76B9-4BA7-BA67-13D31EC4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E2871-29BF-422B-A838-7070D462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9F130-6A7E-43D8-BC46-DD91FF29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A6A3E-EE07-438F-AB9F-495020E7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E40EC-6DA2-48F2-9802-FD640C2D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A6D3C-B9DC-44DC-BBC9-1E1FE670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FDD-8853-45BE-AC16-8806DAF5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3BF89-6322-464C-9264-AE81B75B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615F8-4F02-4673-BBD1-76C3B8BC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AB09D-15C5-497A-8394-AC8626C7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92EFC-2E60-4D8E-AAFE-FFB07F25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D5815-4045-40DD-95D5-5347A3B4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89D7C-4E19-4F16-9B9A-FF2C757D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09D8D-00CA-4A7F-AEC2-77A310C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7852D-1246-4886-9D13-13DFE33A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8AC7D-B316-41B0-878E-B2B7C319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6AD80-4524-4ABB-902B-399797D1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25D-F3A5-4EA0-8744-7C92D9F6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E4295-ACB1-4BE7-8AAC-68974E2C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7D08EF-D56A-43E0-B153-3FC6A9DC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03ABC6-6D00-4343-8161-CBBC724B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288506-A885-459A-BEC0-25233555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D0C017-A410-4FE4-B646-22EBE8E9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B4F4E2-16A5-4E88-B624-FFEE7C29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CBACAF-F123-4A23-8D85-CB909EEF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10A449-61FE-4C78-A409-39B108E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15A201-D070-4FD9-A60F-D7FC705D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7B8698-6F73-445C-B55E-971DDC2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3FAB-FD06-47B7-830E-FE16A6F5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1D967B-E32D-4670-B453-452641B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550CC8-1EC6-49D1-B89E-E8F01821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2F0FB7-AA25-4AAB-A0B9-5BD561DD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716D-06DB-4C4B-B426-1C7FB58D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B099-88B5-471B-A556-C92F625E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2E9D-FF34-4715-BB4E-39212042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6CD2-5D79-484D-A1FA-89EE47AD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BC6A-0A0C-455C-B826-76604D7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D949-2571-4C0E-9BFF-D297DE5E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418-3E6D-4784-A4AA-38E9AAA1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FE96-EC8E-46EA-B179-DA457C6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64DA-3D63-48C7-B34F-F9D5FB1C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AF53-253C-4ED8-A9BE-65B8D5D3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C0D4-2784-4104-8B40-BCD93EEF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1284-851F-4E37-91C0-EB8B39BF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30F5-8890-4168-BAFB-A0FB8FB6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88FCE-2108-45B7-AC94-0D891A5A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998A-A698-44C9-A913-608F6C39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0B00-AF29-4DA1-9379-8AEB757F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283D-44FA-4B03-B138-3A530907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3FE-B419-4E5D-87AB-A311BFB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CFA3-9EFC-43AF-ADA1-B807E0F2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6DF7-AB99-47A5-9C06-508C55B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625D-4DDB-4D8C-A08D-A5901C2F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9486-7CB5-4BC5-93E1-758CAB88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D714-E597-4751-B543-90D666BE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4591-DCC1-4D19-A039-A9410E3F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7892-8D6B-4D53-BE89-DD4017C0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106D-437F-4A76-B5CC-A4BE5563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8430-6341-41DA-ADC7-D2414279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C965-B39D-43DC-9B27-B51E4DCC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3FB-98DA-426D-A607-6B9141B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3C14D-B1BD-441D-84EA-87ED5A4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4D11D-7D4C-4311-A4F4-8F6A7075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9216-2006-4130-939B-E077EBA6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BA9E-5404-450A-8348-905942C7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8372-0797-4BA6-B594-4886F990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78D8-7B9B-4867-8052-A30BB44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F6F9-3239-4837-8FCD-6B001090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AC37-40E8-4C13-85F2-AB29241A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7C12-05DE-4CA0-BFE8-1989D318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E8D9D-A54A-4E97-83D8-A77E33A9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5E6-8FA8-4304-A461-71D256EE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89B4-1A7B-4FAD-BD9C-9D7D94F5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C6BC-9E07-4E12-BC7B-16C5C5FB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D9F6-2BC4-468C-92B5-950C5308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89EB5-C640-4A07-8E06-D54B5AD1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3D67-A5A1-452D-9B6E-42382BF6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11BA-70D7-4F2D-8297-9A76581A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7EF0-1A5C-4847-A5AB-9DE8456B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D697F-E5DD-40D3-A1F5-C8DD32BA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FFDB9-5FD4-4DE8-8579-6EA98EA3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CFCD1-49A0-4F43-AE94-64161A1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0C1-DE72-42D2-A1C4-0FA8300B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2C2B-A9DE-4B29-AE73-1ACB22A1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9CFD-BE4A-492B-9AB1-A324F1F2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6535D-3C2E-4624-918C-31D40383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FF43-1CAD-480B-BFC5-CDB014DF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1C5BF-8EDA-4207-9D4F-1D0FA6B6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CDED-83AB-4529-A2B3-D18CF6FD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678AA-34DC-4F4D-B15B-9C0436E3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15D09-A56F-4D96-B145-2A71EC91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8480-04A3-41E4-B9D0-965187E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4FC32-A3FF-4215-A69A-6CA163AC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5A5-3E83-49F4-B019-582228B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E2FB8-3918-4C26-88BE-CAEC2A34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05149-F43B-4858-8B12-4160DA98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8E451-DF07-4C51-91A6-A64CEB5B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5E943-0168-4A8D-9681-BFDDE351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24E74-59D3-4D9E-AD02-5085DD18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84F5B-0B9A-4AB7-81C4-6C42BBFC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B8E3E-261E-4F8D-9030-63560143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2B753-AABC-4B6E-B801-8B8F440E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B3295-9943-4D85-9CD6-9F8CE5EE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049DA-A36D-424E-A2DE-960BC0FB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058-3DE9-4A5D-AC10-175B27F0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7C94A-A21C-418D-BCEC-2AB039C1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622F-16E3-4E5F-99BC-F2A0DD9F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75903-CDB3-40C0-AFFB-0921710D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4F58B-9BB5-4F71-8D1B-E4FCE8CF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13C5E-A125-4E4C-8142-B847902D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51281-F530-49B6-A1CB-444DED15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18298-DFA5-4389-9B94-CF456F0F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B4175-A187-4352-A23C-F1A50FA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1B237-51BB-45AE-BA4E-62A30091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125E0-7329-4E35-8A16-DD7E7895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DED-17DC-4077-B2F4-B40CDB3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EA176-1C4C-48E8-AB1E-289E7E4B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85DF1-ECD7-4BB8-86A6-E9D00AA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951B9-E9C2-477B-835A-A235D016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96CA6-856B-4213-9C9B-8337E413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D6190-6F27-4824-9728-6AAAF0F4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960EB-8FBB-4F3D-A4AA-AB815C2E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E68FD-BCCC-4C90-B2C3-8CFC8FAD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70F1E-C08F-468D-A796-4FB329F9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56A93-8206-4785-A89F-7035B878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D2B1E-AD6B-45B5-BA13-A10B023C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CEC5-CE9F-4C95-A654-C31D8EC43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9126-7978-467A-9FE3-CCF0D737A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CB18-66AC-4F90-A6B4-6CC5162A9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105C-3BA4-42AE-9534-ADA367154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0AE-CFFC-4642-B164-2904984D8E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60D-833F-48E6-97B8-3422BDB753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6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9739-C9CF-47AD-9C2D-6C2DCD9D71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1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50FF-AC01-453F-A622-F868193314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D408-D501-44A5-A59F-0B4763227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1B05-835F-4F2F-8659-402A7BD0CD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5B1-17C8-4994-9568-3F027F23BD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8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9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.edu/weather/todo/todo.html" TargetMode="External"/><Relationship Id="rId3" Type="http://schemas.openxmlformats.org/officeDocument/2006/relationships/hyperlink" Target="http://www.fi.edu/weather/todo/todo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fari420/?a=60966&amp;ch=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’s the Weather Lik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for a Life Skill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s 2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ing tempera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into 2 group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temperature using a line graph format with assistance from teacher/assista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information from the maps you have, forecast where the clouds will be in three da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w them in their new positions on the map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days from the time you complete this activity watch the news. Look to see where the clouds actually are to check your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 vocabulary word s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set of cards with weather words; match words by opposites (hot/cold, dry/wet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y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 in cards with familiar words (colors, number words, etc).  Sort cards into 2 categories: weather and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munity Buil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2 groups with a teacher/assistant with each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chart paper, brainstorm words that describe weather with adult writing the words on th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groups together and compare list wea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nding weather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resources that will give weathe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pape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TV ne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ath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students how they find out about the weather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1559160" cy="1371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5720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 can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daily weather information through 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newspaper to locate weather conditions and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 the weather conditions for one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what conditions might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4 kinds of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15238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serving th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eather station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fi.edu/weather/todo/todo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 ga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v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jour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ather Jour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66640" y="1752480"/>
          <a:ext cx="8001000" cy="43768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ipit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 direc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treme Wea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urricanes</a:t>
            </a:r>
            <a:br>
              <a:rPr sz="3100"/>
            </a:b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safari420/SAFARI/montage/play.php?frompage=play&amp;keyindex=3653&amp;location=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Wea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278000" y="2019240"/>
          <a:ext cx="6011640" cy="3089160"/>
        </p:xfrm>
        <a:graphic>
          <a:graphicData uri="http://schemas.openxmlformats.org/drawingml/2006/table">
            <a:tbl>
              <a:tblPr/>
              <a:tblGrid>
                <a:gridCol w="1202040"/>
                <a:gridCol w="1202400"/>
                <a:gridCol w="1202040"/>
                <a:gridCol w="1202400"/>
                <a:gridCol w="1202760"/>
              </a:tblGrid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55:19Z</dcterms:created>
  <dc:creator>training123</dc:creator>
  <dc:description/>
  <dc:language>en-US</dc:language>
  <cp:lastModifiedBy>training123</cp:lastModifiedBy>
  <dcterms:modified xsi:type="dcterms:W3CDTF">2009-05-07T18:50:28Z</dcterms:modified>
  <cp:revision>6</cp:revision>
  <dc:subject/>
  <dc:title>What’s the Weather Like?</dc:title>
</cp:coreProperties>
</file>